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CE91-63C0-465F-BF92-7B0D79C5B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99AD-2A09-40B5-AAB5-E549449A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A90A-665D-4A88-8166-46E426E19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B8E2-6453-44A4-A123-22FFE17CD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F5D8-30E5-4805-8F5C-A88B970E4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194D-F17E-4BC1-BD7C-DB2ADCA08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6762-8995-4257-9F93-FCC37723F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F111-C646-49DC-A345-9C8A50F7D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4058-6A0A-4960-841D-62BDD8F35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EBD3-6A7F-45C2-BCED-591AB5A1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A337-4EC7-449B-9F31-2A9488D4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7EF6-AFFF-4DB8-ACFE-F5250E0F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16ACA-3BF8-4CA5-83C2-E48BAE1D3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0160" y="2819520"/>
            <a:ext cx="638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you want to make a differ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664360" y="2514600"/>
            <a:ext cx="33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live in a networked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74560" y="2895480"/>
            <a:ext cx="20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make i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439360" y="2590920"/>
            <a:ext cx="403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thing is connec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134800" y="2868480"/>
            <a:ext cx="43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the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451520" y="2514600"/>
            <a:ext cx="599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erything is intertwinkl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987560" y="2514600"/>
            <a:ext cx="5325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you make it twink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828800" y="2514600"/>
            <a:ext cx="500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ve tech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0160" y="2819520"/>
            <a:ext cx="605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versiteit Twente, Nether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09480" y="3200400"/>
            <a:ext cx="4358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active vis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 enviro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ich media mash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ame develop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35760" y="838080"/>
            <a:ext cx="652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eative technology / new med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523160" y="2743200"/>
            <a:ext cx="607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bachelor.utwente.nl/cre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90920" y="2590920"/>
            <a:ext cx="385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ke a dif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457200"/>
            <a:ext cx="302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mart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72560" y="5410080"/>
            <a:ext cx="225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ew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9760" y="236232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057400" y="2590920"/>
            <a:ext cx="128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35360" y="297180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3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00920" y="3657600"/>
            <a:ext cx="18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X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96560" y="1752480"/>
            <a:ext cx="164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ta3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2040" y="3657600"/>
            <a:ext cx="189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lfLif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40600" y="5105520"/>
            <a:ext cx="23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ious g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72200" y="106668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athe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983240" y="685800"/>
            <a:ext cx="543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reative tech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43360" y="525780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 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11520" y="525780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mart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431720" y="2530440"/>
            <a:ext cx="225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u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938120" y="2530440"/>
            <a:ext cx="266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the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10240" y="3809880"/>
            <a:ext cx="148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88920" y="2743200"/>
            <a:ext cx="724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ifference can be negative or po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064880" y="2819520"/>
            <a:ext cx="720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not everything is black and/or wh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24440" y="2819520"/>
            <a:ext cx="293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not the s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980360" y="2590920"/>
            <a:ext cx="507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not to make a dif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972160" y="2743200"/>
            <a:ext cx="264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 dif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8120" y="2743200"/>
            <a:ext cx="280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same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8840" y="2819520"/>
            <a:ext cx="25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thing e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13880" y="2590920"/>
            <a:ext cx="368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ve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22440" y="2743200"/>
            <a:ext cx="605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versiteit Twente, Nether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4T14:05:49Z</dcterms:created>
  <dc:creator>User name placeholder</dc:creator>
  <dc:description/>
  <dc:language>en-US</dc:language>
  <cp:lastModifiedBy>User name placeholder</cp:lastModifiedBy>
  <dcterms:modified xsi:type="dcterms:W3CDTF">2008-03-20T15:12:22Z</dcterms:modified>
  <cp:revision>7</cp:revision>
  <dc:subject/>
  <dc:title>Slide 1</dc:title>
</cp:coreProperties>
</file>