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2EE8-7025-4CBF-BF9E-05B46E05B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8B8C-0C4F-4319-94EE-D3A3C61F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6547-DCB0-4EA7-89BD-49F250A88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CE03-E3C6-49B9-B17E-C70092755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D887-9FC4-485C-B3CA-D7A73C89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C878-118D-41BD-9731-E4E4854C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6030-11C0-437D-94A2-64002D85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5028-D7A3-42C6-97D8-A0CC822D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7D2B-CCD4-4BB6-B70F-DDD9FA19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C418-D160-4DB6-B42E-EEB32687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9441-8888-47A8-B07F-D9882DBF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F98F-F5B6-46AE-8C45-631995FD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1834-C784-46F4-8816-EAC5AE147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16400" y="137160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"/>
              </a:rPr>
              <a:t>孫子兵法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11:54:42Z</dcterms:created>
  <dc:creator>User name placeholder</dc:creator>
  <dc:description/>
  <dc:language>en-US</dc:language>
  <cp:lastModifiedBy>User name placeholder</cp:lastModifiedBy>
  <dcterms:modified xsi:type="dcterms:W3CDTF">2007-03-29T11:55:04Z</dcterms:modified>
  <cp:revision>1</cp:revision>
  <dc:subject/>
  <dc:title>Slide 1</dc:title>
</cp:coreProperties>
</file>