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276E-7952-4537-B1AD-D0A9FEA1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061-DCC4-48F0-8FD3-033419C6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84B2-B155-4678-9FD2-DEB57C2E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5A7-CE35-4AE1-937C-69E98854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1F78-0B4B-4A46-84AC-1CC52AD8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035-42F8-4863-ABCB-9D05959C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AB1-B355-4F81-B58C-066F5243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DD21-F105-4575-B658-61822377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2946-4DBE-4E46-8D50-CC042C10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C002-BC3E-4BFC-8A87-138E2A46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878B-EA78-49D0-8F3C-8D827321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4F6-E868-4241-B6FD-E2F6064E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C16F-38D5-4BAA-B98D-A3ED05566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05120" y="182880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3440" y="2057400"/>
            <a:ext cx="81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let the fun beg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7680" y="1371600"/>
            <a:ext cx="79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's be serious – X is not a (simple) g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6160" y="3429000"/>
            <a:ext cx="69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in { ICT, climate, promotion, …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83960" y="1789200"/>
            <a:ext cx="39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ference model for serious g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7720" y="2590920"/>
            <a:ext cx="851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reference model for serious ga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77640" y="1198440"/>
            <a:ext cx="8563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service management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utco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learning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intellectual satisf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study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corporate id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onsequenc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job qualif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cenario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problem(s) service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war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service level agre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2600" y="533520"/>
            <a:ext cx="70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service management g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88560" y="251460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engine architecture require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6160" y="2362320"/>
            <a:ext cx="760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dering system -- 2D/3D graph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put system -- user inter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nd system -- ambient and re-a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sics system -- for the blockbus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imation system -- motion of objects and charac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tificial intelligence system -- for real challenge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7840" y="838080"/>
            <a:ext cx="25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3040" y="2438280"/>
            <a:ext cx="642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chnical and artistic iss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49000" y="228600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20080" y="545004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is, let’s begi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1143000"/>
            <a:ext cx="8915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laying video gam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s a waste of ti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63800" y="20970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ly, let’s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47360" y="541008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class gam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5040" y="685800"/>
            <a:ext cx="810252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 is the move from the verbal to the visual a los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a gai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it be that, due to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 it has to be handled visuall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 verbal is no longer adequat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9600" y="1295280"/>
            <a:ext cx="7678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do video gam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ve to teach u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teracy and learnin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6520" y="380880"/>
            <a:ext cx="8091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ituated cogni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emiotic domai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35720" y="60336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88920" y="2209680"/>
            <a:ext cx="681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ing the world in new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ming new affil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paration for futur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8640" y="2286000"/>
            <a:ext cx="627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game ov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727520" y="4572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8440" y="2743200"/>
            <a:ext cx="794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ink about the domain at a meta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omplex system of inter-relate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6:39:10Z</dcterms:created>
  <dc:creator>User name placeholder</dc:creator>
  <dc:description/>
  <dc:language>en-US</dc:language>
  <cp:lastModifiedBy>User name placeholder</cp:lastModifiedBy>
  <dcterms:modified xsi:type="dcterms:W3CDTF">2007-02-26T19:07:00Z</dcterms:modified>
  <cp:revision>4</cp:revision>
  <dc:subject/>
  <dc:title>Slide 1</dc:title>
</cp:coreProperties>
</file>