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9DE-7795-41AE-AD75-20AB01BC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B88-B0FF-4A34-A194-505EC1B8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B8D-5156-4AA0-9514-D239F288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018-8D30-45EF-B7E8-FF4203D1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FB5-85CE-4082-A31A-51235F75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221-6DD7-4C2C-B9CD-1C7081A8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6E4-C047-437E-99AB-17B63668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7B5-9AA7-4A71-98A0-C00129E6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566-B35E-4E23-9D49-BEE60246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A3E-F842-46E5-BF37-B4D968E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0EC-F8B0-4D07-BD2D-9EE5DC22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150-7F9D-46C6-811A-E85B39A0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546C-9897-4328-B095-1842EAEC2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8880" y="2590920"/>
            <a:ext cx="44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236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8400" y="3200400"/>
            <a:ext cx="78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lligent multimedia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(s) multimedia / 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6600" y="91440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360" y="2819520"/>
            <a:ext cx="70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s.vu.nl/~eliens/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777960"/>
            <a:ext cx="36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7400" y="474012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ima Futur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9720" y="2225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5440" y="26067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76720" y="3063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5600" y="3825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16160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1480" y="352116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680" y="53499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9360" y="281952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640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7-09-04T14:12:05Z</dcterms:modified>
  <cp:revision>6</cp:revision>
  <dc:subject/>
  <dc:title>Slide 1</dc:title>
</cp:coreProperties>
</file>