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18D-F50B-4346-BFD6-63509B45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A7C-07A8-4B5D-B8B4-F913B4B9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4A8-67A7-4F59-80AF-2EED5269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149-0DB5-4EC6-B406-B369810B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3B7-A6AA-4E64-9575-B9FDF615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44A-5BCA-46CF-94A8-E5A280CF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951-F60F-4EB0-8579-E68D1991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4F4-49E0-4ABF-8190-D99EF12A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521-EDFB-401B-A3FA-727C12A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4A7-CEF4-434E-ADBF-63870D84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CC7-2EFB-4404-91F9-C8074798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4DC-8DD1-4E7F-B483-004E0BF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AF9D-280E-4AA4-AEA7-1CF859BE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6280" y="950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0840" y="57960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ssage 2.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0240" y="2514600"/>
            <a:ext cx="8602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ou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rm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election of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9400" y="5867280"/>
            <a:ext cx="71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our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514600"/>
            <a:ext cx="28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8720" y="327672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i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4440" y="49528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5720" y="334476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3120" y="4572000"/>
            <a:ext cx="23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1480" y="6015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, viral(s), clips, casual game(s), message(s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00" y="685800"/>
            <a:ext cx="90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when I start talking about the aesthetics of our time, it is better to annou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8160" y="992160"/>
            <a:ext cx="87087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ideo gam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5480" y="532620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play (G), exploration (E), simulation 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8-05-31T14:15:57Z</dcterms:modified>
  <cp:revision>8</cp:revision>
  <dc:subject/>
  <dc:title>Slide 1</dc:title>
</cp:coreProperties>
</file>