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54E-7A3D-429B-82D3-53017355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BFD6-6B90-4B35-9A9A-80B4DAD7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FDB-26CC-4E92-82E5-525B5304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B74-6355-439A-B8DF-165C64E9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4ED-D6D6-4FD7-AFBA-93F4F13D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53D-F798-4D2A-AB3A-E2A43ABD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E8D6-9F0F-4832-B5E8-92551583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90C-7E6F-4532-9A3B-2202F804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81A-3166-4592-8629-0BCD2C18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2FF7-A6EB-4D17-9490-F9AF7AA6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ADC-BFFC-44F9-8FB8-80464AA7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3EF-144D-4AF1-AA0D-15C19DEB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3F38-D364-4A6C-B874-239D3FCE4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2360" y="2819520"/>
            <a:ext cx="205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81640" y="2819520"/>
            <a:ext cx="20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or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1640" y="28195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14240" y="289548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as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81280" y="2362320"/>
            <a:ext cx="214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34290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582720" y="281952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77080" y="259092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581280" y="2362320"/>
            <a:ext cx="214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4290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78160" y="259092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76360" y="259092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14240" y="289548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as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03680" y="3048120"/>
            <a:ext cx="53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is a social constr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25909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2360" y="2819520"/>
            <a:ext cx="25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pl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77440" y="25909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76720" y="259092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by th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77800" y="2590920"/>
            <a:ext cx="19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259092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iv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2720" y="281952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560" y="2438280"/>
            <a:ext cx="259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2000" y="3276720"/>
            <a:ext cx="25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62320" y="259092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game pl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76720" y="259092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583080" y="2819520"/>
            <a:ext cx="12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61600" y="2590920"/>
            <a:ext cx="44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s of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582720" y="28195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62680" y="2590920"/>
            <a:ext cx="33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 is not 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581640" y="28195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429000" y="2819520"/>
            <a:ext cx="214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582000" y="281952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10600" y="274320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363040" y="2590920"/>
            <a:ext cx="406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 compu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4920" y="2819520"/>
            <a:ext cx="49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     game    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83440" y="2819520"/>
            <a:ext cx="21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05120" y="281952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centered multi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2720" y="2743200"/>
            <a:ext cx="20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29000" y="2819520"/>
            <a:ext cx="214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89840" y="2438280"/>
            <a:ext cx="388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1280" y="3276720"/>
            <a:ext cx="381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 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6-10-14T15:37:50Z</dcterms:modified>
  <cp:revision>5</cp:revision>
  <dc:subject/>
  <dc:title>Slide 1</dc:title>
</cp:coreProperties>
</file>