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FDC3-B471-48D1-A16D-604D73FDA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6AD1-F361-4E54-B25C-B38190BA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A639-CA2A-465D-BAA4-9B77B833E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D968-06D3-4BC6-9E12-FC6B16620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F86C-E90D-4804-93A7-C9A82671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2098-376D-4C7D-BBA2-F81D92F8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CD7E-EC06-4ACE-9A01-AC611118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32B8-9935-432E-A60F-02A9901F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E88A-3649-4F5B-886E-2F1FBB98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F878-B293-42A1-8153-CEEB908B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DC25-FC50-49EB-85AF-621F0695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250A-A730-4392-8B4D-004C6511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72B7-FE84-4C5C-89C4-5A3288FE1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449000" y="2286000"/>
            <a:ext cx="614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be creativ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46280" y="950760"/>
            <a:ext cx="4511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0840" y="579600"/>
            <a:ext cx="383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essage 2.0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0240" y="2514600"/>
            <a:ext cx="86022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 our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gital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essage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termi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selection of th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59400" y="5867280"/>
            <a:ext cx="71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ording to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esthetic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terac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f our ti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2514600"/>
            <a:ext cx="282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allen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8720" y="3276720"/>
            <a:ext cx="266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rios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44440" y="4952880"/>
            <a:ext cx="223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ontrol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65720" y="3344760"/>
            <a:ext cx="18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93120" y="4572000"/>
            <a:ext cx="232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ex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41480" y="601560"/>
            <a:ext cx="59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edia, viral(s), clips, casual game(s), message(s)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320080" y="545004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is, let’s begin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3600" y="685800"/>
            <a:ext cx="90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t when I start talking about the aesthetics of our time, it is better to announ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8160" y="992160"/>
            <a:ext cx="870876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at do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video game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ave to teach u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bo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literacy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learning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6520" y="380880"/>
            <a:ext cx="80917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situated cogniti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semiotic domain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35720" y="603360"/>
            <a:ext cx="345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e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88920" y="2209680"/>
            <a:ext cx="6818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ing the world in new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forming new affil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reparation for futur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448640" y="2286000"/>
            <a:ext cx="627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game ov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727520" y="457200"/>
            <a:ext cx="35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tical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8440" y="2743200"/>
            <a:ext cx="794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hink about the domain at a meta-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complex system of inter-related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05120" y="1828800"/>
            <a:ext cx="16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n 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3440" y="2057400"/>
            <a:ext cx="81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let the fun begi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915400" cy="3809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55480" y="5326200"/>
            <a:ext cx="828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me play (G), exploration (E), simulation  (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6:39:10Z</dcterms:created>
  <dc:creator>User name placeholder</dc:creator>
  <dc:description/>
  <dc:language>en-US</dc:language>
  <cp:lastModifiedBy>User name placeholder</cp:lastModifiedBy>
  <dcterms:modified xsi:type="dcterms:W3CDTF">2008-05-31T14:15:57Z</dcterms:modified>
  <cp:revision>8</cp:revision>
  <dc:subject/>
  <dc:title>Slide 1</dc:title>
</cp:coreProperties>
</file>