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08D73-2D16-4D91-9B38-F0FE220D6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B1247-248D-48AB-8C61-B3DC20FD2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C839C-614F-4090-A449-A68096AC5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DACD2-C32D-4BCF-A288-CF77412DA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DD735-5504-4856-A285-74745C915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DD98C-19E5-480A-AFE9-A0D74C6DA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4B78C-6030-4470-914B-01A327627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FACBB-05B8-4835-A535-A271C5EA0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00F93-774E-495D-952B-D94B50A9D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86B1C-9943-4738-A0AB-C1ED42747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A250F-0BA6-40CB-A0BF-B0465AB29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502FC-56C7-44FB-B0A6-4D7A91A48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0A3CF-D691-458B-9BDB-34F81B3CFA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905120" y="1828800"/>
            <a:ext cx="16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un beg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13440" y="2057400"/>
            <a:ext cx="8138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Arial"/>
              </a:rPr>
              <a:t>let the fun begin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607680" y="1371600"/>
            <a:ext cx="79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's be serious – X is not a (simple) ga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86160" y="3429000"/>
            <a:ext cx="690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X in { ICT, climate, promotion, … 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883960" y="1789200"/>
            <a:ext cx="39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reference model for serious gam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87720" y="2590920"/>
            <a:ext cx="8512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reference model for serious gam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77640" y="1198440"/>
            <a:ext cx="856368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rule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-- service management protoco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outcom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-- learning proces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valu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-- intellectual satisfa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effor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-- study proced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attachmen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-- corporate id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consequence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-- job qualific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scenario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– problem(s) service manage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reward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- service level agree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902600" y="533520"/>
            <a:ext cx="702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ive service management gam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988560" y="2514600"/>
            <a:ext cx="73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ame engine architecture requirement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686160" y="2362320"/>
            <a:ext cx="76096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ndering system -- 2D/3D graphic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put system -- user interac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und system -- ambient and re-activ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hysics system -- for the blockbust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imation system -- motion of objects and charact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rtificial intelligence system -- for real challenge(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487840" y="838080"/>
            <a:ext cx="252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m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g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373040" y="2438280"/>
            <a:ext cx="6429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echnical and artistic iss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449000" y="2286000"/>
            <a:ext cx="6144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be creative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5320080" y="5450040"/>
            <a:ext cx="292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at is, let’s begin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762120" y="0"/>
            <a:ext cx="7772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28600" y="1143000"/>
            <a:ext cx="891540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playing video game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is a waste of tim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963800" y="2097000"/>
            <a:ext cx="265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ally, let’s 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347360" y="5410080"/>
            <a:ext cx="448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terclass game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5040" y="685800"/>
            <a:ext cx="8102520" cy="49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.. is the move from the verbal to the visual a loss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r a gain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uld it be that, due to complex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.. it has to be handled visually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cause the verbal is no longer adequate?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759600" y="1295280"/>
            <a:ext cx="76788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what do video games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have to teach us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bou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iteracy and learning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686520" y="380880"/>
            <a:ext cx="809172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situated cognition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          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in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semiotic domain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635720" y="603360"/>
            <a:ext cx="3454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tive lear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88920" y="2209680"/>
            <a:ext cx="68187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iencing the world in new w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forming new affili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preparation for future lea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448640" y="2286000"/>
            <a:ext cx="6279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Arial"/>
              </a:rPr>
              <a:t>game ove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727520" y="457200"/>
            <a:ext cx="3566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ritical lear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48440" y="2743200"/>
            <a:ext cx="7948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think about the domain at a meta-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complex system of inter-related p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6T16:39:10Z</dcterms:created>
  <dc:creator>User name placeholder</dc:creator>
  <dc:description/>
  <dc:language>en-US</dc:language>
  <cp:lastModifiedBy>User name placeholder</cp:lastModifiedBy>
  <dcterms:modified xsi:type="dcterms:W3CDTF">2007-02-26T19:07:00Z</dcterms:modified>
  <cp:revision>4</cp:revision>
  <dc:subject/>
  <dc:title>Slide 1</dc:title>
</cp:coreProperties>
</file>