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877A-0CA1-4EDB-AE69-9C12C1ABB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C3F6-E9C4-44A1-AA99-F2D6728A0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911E-1953-4502-A329-3951F9ED87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69B0-287A-41FB-B15E-4504CBAC1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62BF-20CE-4C1D-8BC7-8EA104BB6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9363-B07E-4832-8E94-95F052FF1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2DAA-1EBF-47AC-BF1E-1727A9376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E1C2-3872-4870-AA96-CDE0A54C6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0419-A679-40B1-A816-4BD66305E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D69A-899B-47F3-9D27-7EBB5C3DC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176E-DF99-41B3-9309-9B8F94960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37CF-5AAB-4B80-B2C1-70419C7CE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AA41-15AD-4451-96D0-ED83E54B62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9F5B-4F2A-4A10-B93B-894BB29CC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D852-A4FC-42EC-9D77-A40AFED3C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8500-0E73-4333-951E-39E1F0DE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9032-CB39-4248-89AB-5F79BB8C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573E-8275-4E00-BE38-1C5188AA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59CD-58A0-4EAB-8325-14A033E1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E0C-4922-474A-9CD6-96C9B0D2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218-11E7-444C-ABAE-AD7CEBB8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A71B-3F46-4B84-BBE4-A4126217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0577-9F9C-48D5-891E-0592732D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F5C4-FC27-49AC-BFF6-15EC7FD8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6A5F-AF3D-4AED-BC91-618BCB50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A660-638E-4C27-BD7B-774FD89A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A055-93E9-4EB3-930D-DEA2BA7E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96BF-7E9A-4E72-A02E-0BDA9E882B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4CB6-7565-47DA-B090-2C3E5F3E0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286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NORAM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Rich VRML Platform For Online Gam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56800" y="4714560"/>
            <a:ext cx="4357800" cy="1042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i Yin    Anton Eli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Documents and Settings\Administrator\Desktop\title.jpg"/>
          <p:cNvPicPr/>
          <p:nvPr/>
        </p:nvPicPr>
        <p:blipFill>
          <a:blip r:embed="rId1"/>
          <a:stretch/>
        </p:blipFill>
        <p:spPr>
          <a:xfrm>
            <a:off x="6072120" y="3405240"/>
            <a:ext cx="3071880" cy="3452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oto Share Appl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FCBD-5343-4AE3-81F6-EFE8A4049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D:\Work\PANORAMA\ShortPaper\figure3_2.jpg"/>
          <p:cNvPicPr/>
          <p:nvPr/>
        </p:nvPicPr>
        <p:blipFill>
          <a:blip r:embed="rId2"/>
          <a:stretch/>
        </p:blipFill>
        <p:spPr>
          <a:xfrm>
            <a:off x="1357200" y="1643040"/>
            <a:ext cx="6318360" cy="442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Administrator\Desktop\vu.gif"/>
          <p:cNvPicPr/>
          <p:nvPr/>
        </p:nvPicPr>
        <p:blipFill>
          <a:blip r:embed="rId3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vantages to other Online Gaming Platfo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ee and Open sou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 the players and tools needed can be found free or open-source o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 can totally build up your game for fre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 performance of VR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tally a 3D game eng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 rendering spe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pen standa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rectX9 fully support, you can port your effects easi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yalty free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ee authoring tools available(Flux, VrmlPa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 can also build your world from Text Editor (It’s also very conveni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068D-2683-4EC1-8CE8-6025823EE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advantage to other online Gaming platform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tibility problem among different play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rd to find some worlds can be played as same using different play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ome players have their own special featur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automatic installation on today's brows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er has to install the plug-in mannual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7476-4F3B-4AAB-B54D-EE08C9A88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ew design model for multi-user support in VRM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-source development environ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’s not only for games, but can also used in other web 3d applic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e Google UI to overcome the tedious work in programming the interface in VRM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BA37-50CB-4E0A-9017-2ED0AF581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0027-2526-4941-9166-4AAC63B94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blems in Traditional VRML G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quality i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e Polyg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ll tex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or Ligh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communication fac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gle us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orporate with other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Administrator\Desktop\wasp-soccer1.jpg"/>
          <p:cNvPicPr/>
          <p:nvPr/>
        </p:nvPicPr>
        <p:blipFill>
          <a:blip r:embed="rId1"/>
          <a:stretch/>
        </p:blipFill>
        <p:spPr>
          <a:xfrm>
            <a:off x="2401920" y="2066760"/>
            <a:ext cx="4181400" cy="4645080"/>
          </a:xfrm>
          <a:prstGeom prst="rect">
            <a:avLst/>
          </a:prstGeom>
          <a:ln w="0">
            <a:noFill/>
          </a:ln>
        </p:spPr>
      </p:pic>
      <p:sp>
        <p:nvSpPr>
          <p:cNvPr id="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57DA-F0D6-4D03-954F-EEA305BBE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Administrator\Desktop\vu.gif"/>
          <p:cNvPicPr/>
          <p:nvPr/>
        </p:nvPicPr>
        <p:blipFill>
          <a:blip r:embed="rId2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RML Games Tod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 quality i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x polygon and texture thanks to the fast video ca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X9 fully sup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der Program in VR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communication problems still haven’t been sol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E070-A587-4E35-8866-7FD2EA0BC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Administrator\Desktop\2.jpg"/>
          <p:cNvPicPr/>
          <p:nvPr/>
        </p:nvPicPr>
        <p:blipFill>
          <a:blip r:embed="rId1"/>
          <a:stretch/>
        </p:blipFill>
        <p:spPr>
          <a:xfrm>
            <a:off x="2262240" y="1994040"/>
            <a:ext cx="4906800" cy="5949720"/>
          </a:xfrm>
          <a:prstGeom prst="rect">
            <a:avLst/>
          </a:prstGeom>
          <a:ln w="0">
            <a:noFill/>
          </a:ln>
        </p:spPr>
      </p:pic>
      <p:sp>
        <p:nvSpPr>
          <p:cNvPr id="61" name="Footer Placeholder 4"/>
          <p:cNvSpPr/>
          <p:nvPr/>
        </p:nvSpPr>
        <p:spPr>
          <a:xfrm>
            <a:off x="307188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Administrator\Desktop\vu.gif"/>
          <p:cNvPicPr/>
          <p:nvPr/>
        </p:nvPicPr>
        <p:blipFill>
          <a:blip r:embed="rId2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ternative Solu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er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atibility Problem with other play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 open enough for developer to exp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ensive charges, licenses, user number lim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LP with sock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 academic research, not mature enoug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n only run  in 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 Perform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rd to integrate and slow development peri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 Perform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328608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1883-9DA3-488D-A61C-96D9D7F8D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PANORAMA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to show self-refle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lligent, Interactive and visually good loo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 the awareness within the around environ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4E8A-213B-4409-A4F2-080F6F2D0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ystem Desig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ke VRML World For the Game and other applic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alistic 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action with user (web 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AJAX + EAI to set up a communication facil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equent asynchronize communication with the server so you can talk with other guy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n’t have to refresh the page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Google Web Toolkits to make control panel and integrate with other web cont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vercome the weakness of UI in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egantly  work with other web elements(form, text, tags…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EC90-EE46-4D16-9067-6C9B29844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ystem Archite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2A6C-F6B5-473D-B855-B15C325F1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D:\Work\PANORAMA\ShortPaper\figure1.jpg"/>
          <p:cNvPicPr/>
          <p:nvPr/>
        </p:nvPicPr>
        <p:blipFill>
          <a:blip r:embed="rId1"/>
          <a:stretch/>
        </p:blipFill>
        <p:spPr>
          <a:xfrm>
            <a:off x="1571760" y="1571760"/>
            <a:ext cx="5902200" cy="3786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Administrator\Desktop\vu.gif"/>
          <p:cNvPicPr/>
          <p:nvPr/>
        </p:nvPicPr>
        <p:blipFill>
          <a:blip r:embed="rId2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snfer value through the EAI interfa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cument.Contact3D.setNodeEventIn(node, field, value); # send the value in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rowser.loadURL(“OnEvent(par)”, v); # call the function out of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JAX request made in Javascript or the Google RPC at cli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t Timeout value smaller enough if you want to refresh it frequentl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er page can be implemented in whatever way you lik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GI, PHP, Perl, and Java with a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nk about the GTal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in Java to make the control interface in GWT saves lot of tim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’s not only on the HTML side, but also for the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gramming UI in VRML is time consum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FE69-EE6C-4EA8-AC1D-F6C1249C2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Jumping Tiger Ga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1A8E-B5EE-4862-B7CF-67A9EC8B7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D:\Work\PANORAMA\ShortPaper\figure2_2.jpg"/>
          <p:cNvPicPr/>
          <p:nvPr/>
        </p:nvPicPr>
        <p:blipFill>
          <a:blip r:embed="rId2"/>
          <a:stretch/>
        </p:blipFill>
        <p:spPr>
          <a:xfrm>
            <a:off x="1500120" y="1714680"/>
            <a:ext cx="6286680" cy="443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Documents and Settings\Administrator\Desktop\vu.gif"/>
          <p:cNvPicPr/>
          <p:nvPr/>
        </p:nvPicPr>
        <p:blipFill>
          <a:blip r:embed="rId3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1:18:05Z</dcterms:created>
  <dc:creator>S.Yin</dc:creator>
  <dc:description/>
  <dc:language>en-US</dc:language>
  <cp:lastModifiedBy>User name placeholder</cp:lastModifiedBy>
  <dcterms:modified xsi:type="dcterms:W3CDTF">2007-04-06T09:23:31Z</dcterms:modified>
  <cp:revision>57</cp:revision>
  <dc:subject/>
  <dc:title>PANORAMA A Rich VRML Platform For Online Gaming</dc:title>
</cp:coreProperties>
</file>