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0CFB-C761-4623-9B23-77AB7067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E81C-AAC6-411F-BBDA-161CE3DE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EE12-2A09-40EE-B9EB-5A676790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DAD1-28F2-4524-AC0A-37AF56CC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C42D-465B-45E5-A837-05E5D9B4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5896-D7BA-4B19-8CA8-45E2D93C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45FB-BC1D-49EF-8E2D-F6ED01B9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8BCB-360C-4190-8925-6F9E51E0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8899-2DAB-4B77-B04A-F7BB7119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51A7-5F44-4C7D-84DF-E550CE10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CE39-68E5-4486-BD99-201C8FD6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0BBE-5005-4D7C-AEB9-69A4C6F2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7C04-2449-4F38-889B-BD629FC4B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4360" y="83808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47800" y="1752480"/>
            <a:ext cx="708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te, Recommed, Regr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87240" y="3265560"/>
            <a:ext cx="57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d tours / serial recomm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74920" y="304920"/>
            <a:ext cx="82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33360" y="5410080"/>
            <a:ext cx="188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on El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wen W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429000" y="304920"/>
            <a:ext cx="52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LIGENT GUIDANCE – REALIZATION 2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3543120" cy="2657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791320" y="1371600"/>
            <a:ext cx="3085920" cy="2314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7680" y="5065560"/>
            <a:ext cx="33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T TECHNOLOGY / D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32800" y="5486400"/>
            <a:ext cx="29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C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92360" y="457200"/>
            <a:ext cx="630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AL ADAPTATION OF RECOMMEND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6240" y="1447920"/>
            <a:ext cx="703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recommender system that generates a collection of artwor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ccordance with  the users' prefer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the rating of a small sample of ar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9720" y="6858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760" y="2743200"/>
            <a:ext cx="42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erties  =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rio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rt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nr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120" y="3581280"/>
            <a:ext cx="826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 weighting scheme on the properti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is a difference metric on the properti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graph can be creat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ing a prioritized accessibility re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each artwork and a collection of related artwor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changing the weight for one of the proper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xampl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n case the tour is generated for the actual museu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iority ordering may be changed, resulting in a different to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17720" y="60958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97480" y="457200"/>
            <a:ext cx="42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AL RECOMMENDER MODEL 1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0560" y="1066680"/>
            <a:ext cx="251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 = u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= i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 = behavi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 = recomme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 = fea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7840" y="1676520"/>
            <a:ext cx="28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s --  U x I x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ations --  U x 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7240" y="3124080"/>
            <a:ext cx="372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distributed recommender(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x F -&gt;  U x I x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(s)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x B -&gt; I x 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4360" y="4114800"/>
            <a:ext cx="31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FEATUR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45560" y="4684680"/>
            <a:ext cx="5119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[ time = 20sec, rating = r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[ artist = rembrandt, topic = portrai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[ artist(rembrandt) = r, topic(portrait) = r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497480" y="457200"/>
            <a:ext cx="42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AL RECOMMENDER MODEL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86200" y="3429000"/>
            <a:ext cx="5000760" cy="3429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9080" y="11430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[ p1, p2 , ...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re pk = [ f1 = v1, f2 = v2, ...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9080" y="2286000"/>
            <a:ext cx="55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_nightwatch = [ artist=rembrandt, topic=group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_guernica = [ artist=picasso, topic=group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700320" y="38088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 METR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68280" y="990720"/>
            <a:ext cx="33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me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(x,y) = d(y,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(x,y) &lt;= d(x,z) + d(z,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(x,x) =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160" y="2438280"/>
            <a:ext cx="51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1 = [ artist = rembrandt, topic = self-portrai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2 = [ artist = rembrandt, name = nightwatch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3 = [ artist = picasso, topic = self-portrai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4 = [ artist = picasso, name = guernica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0760" y="914400"/>
            <a:ext cx="40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f d( a1, a2 ) &lt; d( a1, a3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n r(topic) &lt; r(artis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240" y="3998880"/>
            <a:ext cx="54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ice in sequence: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n |-&gt; s_{n+1} / [ a1, a2, ...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1360" y="4724280"/>
            <a:ext cx="475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n = [ time = 20sec, forward = ak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n = [ artist = rembrandt, topic = portrai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 = [ d(sn, ak ) &lt; d(sn, s_{n+1})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8720" y="5943600"/>
            <a:ext cx="30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ING / REFI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08560" y="457200"/>
            <a:ext cx="51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S FOR FEEDBACK DISCREPA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43040" y="1143000"/>
            <a:ext cx="438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mensions involved in 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sitive vs neg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vidual vs community/collabo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eature-based vs item-ba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760" y="3200400"/>
            <a:ext cx="43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n |-&gt; s_{n+1} / [ a1, a2, ...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2360" y="3962520"/>
            <a:ext cx="611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utral interpretation -- use d(sn, ak) &lt; d(sn, s_{n+1}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sitive interpretation -- increase w(feature(ak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gative interpretation -- decrease w(feature(s_{n+1}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360" y="5715000"/>
            <a:ext cx="39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VE / NEGATIV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478920" y="45720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880" y="1295280"/>
            <a:ext cx="808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this paper we have shown how to adap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uided tou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tracking expert users by modifying th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weigh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ttached to the exper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contributed to the construction of this to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pplication of these techniques requires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hoices are discre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hence do not apply to arbitrary navigation in virtual environme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less we find proper ways to encode such navigation as a s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nite collection of discrete ste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so in the discrete case, however, we must be able to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normali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navigation path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in order to compare and weigh the contrib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the experts involv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have generalized our approach to a wider clas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erial recommender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and indicated how to apply th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revision of rating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an incremental fashion to adapt an existing tou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sonal preferences, reflecting th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ctual navigation behavio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us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1840" y="304920"/>
            <a:ext cx="58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t Advice and Regret for Serial Recommend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3200" y="762120"/>
            <a:ext cx="82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e, Recommend, Regret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xpert-based Approach to the Personalization of Guided Tou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360" y="228600"/>
            <a:ext cx="19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2960" y="2246400"/>
            <a:ext cx="6342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COMMENDER SYSTEMS -- BRIEF OVER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THEMATICAL PRELIMINARIES -- DECISION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BRAMOV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OS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UIDED TOURS IN DIGITAL DOSSI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SONALIZATION BY EXPERT R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LLIGENT GUIDANCE -- RE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CREMENTAL ADAPTATION OF RECOMMEND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RIAL RECOMMENDER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ENT METR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ASURES FOR FEEDBACK DISCREPA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77440" y="304920"/>
            <a:ext cx="550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MMENDER SYSTEMS -- BRIEF OVER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29200" y="914400"/>
            <a:ext cx="7422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diction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cial-based -- dependent on (group) rating of item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ormation-based -- dependent on features of item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ybrid methods -- combining predic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9040" y="3313080"/>
            <a:ext cx="73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finition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ati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-- a value representing a user's inter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commend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-- item(s) that might be of interest to the u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gr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-- a function to measure the accuracy of recommend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41720" y="5141880"/>
            <a:ext cx="737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al recommender --    predicts sequ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n expert (obsessive) w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99480" y="417600"/>
            <a:ext cx="63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HEMATICAL PRELIMINARIES -- DECISION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640" y="1066680"/>
            <a:ext cx="8449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lassical prediction theory a prediction is a sequence of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1, x2, ... that results from a stationary stochastic proce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isk of the prediction is taken to be the expected 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e accumulat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unc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ing the discrepancy between predicted values and actual outcom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16240" y="2971800"/>
            <a:ext cx="47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riant: [Cesa-Bianchi and Lugosi (2006)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1040" y="3468600"/>
            <a:ext cx="83404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forecast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=  an entity that gives a prediction for an el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one or mor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exper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t(s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 actual sequences stored in a databa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egre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unc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deviation of the forecaster with the actual out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diction tas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 minimimizing th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gr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unction by choo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best expert for advice for each element of a prediction sequ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use a weighting factor 0 &lt;= bi &lt;= 1 for each exper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indicate the credibility of the experts' ad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83280" y="228600"/>
            <a:ext cx="36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RAMOV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OSSIER 1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4191120" cy="2514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990960" cy="3962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760" y="56988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 ga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39080" y="399888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rete step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3280" y="541008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T USER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183280" y="304920"/>
            <a:ext cx="35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RAMOV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OSSIER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352680" y="144792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791320" y="20574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4240" y="68580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llation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56520" y="4608360"/>
            <a:ext cx="26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discret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3920" y="125568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a della Dea M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3800" y="533412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XPERT USER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038480" y="380880"/>
            <a:ext cx="45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DED TOURS IN DIGITAL DOSSI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4320" y="1219320"/>
            <a:ext cx="803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(viewpoint) navigation in virtual spa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imation explaining, for example, the construction of an artwork,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(narrative) presentation of a sequence of concept no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5920" y="4952880"/>
            <a:ext cx="684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must be possible to normalize interaction sequ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734280" y="457200"/>
            <a:ext cx="47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LIZATION BY EXPERT R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7680" y="1295280"/>
            <a:ext cx="8038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ccessor function S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each node n S(n) = { n1,...,nk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sign to each expert i a weight 0 &lt;= bi &lt;= 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cating the relevance of exper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ach expe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sume to have an advice ai = x, with weight bi and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 S(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nal advice will be a(n) =ai(n) with weight bi  and w(ei) &gt; w(ej) for i != 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f no suitable advice ai(n) exists, we may query the user to dec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ich expert has preference, and adapt the weigh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he experts according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05320" y="457200"/>
            <a:ext cx="52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LIGENT GUIDANCE – REALIZATION 1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1143000"/>
            <a:ext cx="830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tering the information space according to the user's perspective,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lligent agents, that (pro) actively aid the user in searching the information 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3505320" cy="2273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905120" y="3886200"/>
            <a:ext cx="3790800" cy="2459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876920" y="2133720"/>
            <a:ext cx="3714480" cy="2409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9320" y="52578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55240" y="54100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09:21:28Z</dcterms:created>
  <dc:creator>User name placeholder</dc:creator>
  <dc:description/>
  <dc:language>en-US</dc:language>
  <cp:lastModifiedBy>User name placeholder</cp:lastModifiedBy>
  <dcterms:modified xsi:type="dcterms:W3CDTF">2007-04-29T12:30:11Z</dcterms:modified>
  <cp:revision>3</cp:revision>
  <dc:subject/>
  <dc:title>Slide 1</dc:title>
</cp:coreProperties>
</file>