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881-B677-4A94-B19D-1334CBA3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CDE1-8136-424C-A51B-DACD8360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AC19-7550-4704-8FD4-B49BA188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DDDF-0972-4121-8179-55475A96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2AD1-4F5B-46E7-910E-2C60AC52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919B-9B4F-48D4-B4C5-8B6E6984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934-08F8-422C-B970-6185CB8C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EEAF-E351-4438-9C13-967E0AEF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B59-C3F0-4845-A856-40F06E04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2988-1BBA-4CEF-868C-26DE4772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AB3A-C1F5-4C99-B38C-8B7F81F1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32E1-3CDC-4152-91A8-64FC762B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18B8-F3ED-4EB7-95FD-2EE391E07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4320" y="609480"/>
            <a:ext cx="744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3760" y="2362320"/>
            <a:ext cx="66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(virtual) community of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0" y="5410080"/>
            <a:ext cx="927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on Eliëns, Frans Feldberg, Elly Konijn, Egon Com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W                FEWEB              FSW      COMMUNIC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562720" y="3124080"/>
            <a:ext cx="28810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5880" y="380880"/>
            <a:ext cx="66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1200" y="2895480"/>
            <a:ext cx="786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Life as a platform for Serious Ga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000" y="556272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 it technically adequ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0960" y="380880"/>
            <a:ext cx="49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1523880"/>
            <a:ext cx="6940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 engin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ndering system -- 2D/3D graph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put system -- user inter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nd system -- ambient and re-a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ysics system -- for the blockbus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tion system -- motion of objects and charac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tificial intelligence system -- for real challeng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6240" y="5522760"/>
            <a:ext cx="72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 Second Life sufficiently scalable to adapt to expected grow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10960" y="380880"/>
            <a:ext cx="49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915400" cy="4408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3600" y="5599080"/>
            <a:ext cx="67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C = blaxxun Community, AW = AlphaWorld, D3D = Delta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L2 = Half Life 2 Source SDK, SL = Seco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4480" y="38088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 IN SECO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00080" y="4952880"/>
            <a:ext cx="602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quest -- wiki.secondlife.com/wiki/LlHTTPRequ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cape -- wiki.secondlife.com/wiki/LlEscapeUR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ponse -- wiki.secondlife.com/wiki/Http_respon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2600" y="1752480"/>
            <a:ext cx="8449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ctor target= &lt;162,134,27&gt;;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// coordinates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L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ault { state_entry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etText("Info @ VU",&lt;255,255,255&gt;,5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etSitText("teleport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tation my_rot=llGetRo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itTarget((target - llGetPos()) / my_rot,ZERO_ROTATION / my_ro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anged(integer chang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UnSit(llAvatarOnSitTarget()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// end defaul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53000" y="87480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-like, server-s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31000" y="304920"/>
            <a:ext cx="38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5560" y="5257800"/>
            <a:ext cx="58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url.com/secondlife/VU%20University%20NL/29/1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560" y="44956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url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971800"/>
            <a:ext cx="56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nowledgebase -- secondlife.com/knowledge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cripting -- wiki.secondlife.com/wiki/LSL_Por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in page -- https://wiki.secondlife.com/wi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560" y="2133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ki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83280" y="125568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wnership, access and modifiability right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4480" y="380880"/>
            <a:ext cx="44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36280" y="1484280"/>
            <a:ext cx="624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vergence of social networking and content cre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mersive networked 3D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lusion of elementary economic princi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n't miss the boat eff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ee and easy accessible 3D design tool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option by big companies like IBM, Reebok,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keting of Second Life by Linden Lab (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promise to make (real) money (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" y="4800600"/>
            <a:ext cx="8201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ording to Philip Rosedale, CEO of Linden Lab, (interview in .NET magazine, issue 15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uary 2007) the success of SL is due to the fact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 it offers a set of capabilities, which are in many different ways superior to the real worl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 the decision to allow residents to own the intellectual property rights to their creation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 because Second Life is full of creative possibilities, and opportunites for innov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4480" y="380880"/>
            <a:ext cx="44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36640" y="14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15880" y="1371600"/>
            <a:ext cx="740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eren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construct and communicat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utco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a second wor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virtual and real (monetary) rew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requires elementary ski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a virtual ident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transfer to first l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79640" y="556272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 a veritable media-supported augmentation of our first lif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04920"/>
            <a:ext cx="41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YOUR BREATH -- GOING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092240"/>
            <a:ext cx="4495680" cy="3370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95680" y="3448080"/>
            <a:ext cx="4648320" cy="3484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0" y="1523880"/>
            <a:ext cx="26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L4, AT5, Campus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ool, Elsev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0960" y="5334120"/>
            <a:ext cx="21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&lt; 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 #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y of Mario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16440" y="304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DEVELOP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90760" y="4800600"/>
            <a:ext cx="46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AA: 3D weather data visu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OA: test the water in a virtual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C: spare change in second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E: be anyone, set your own age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ORPG: secondlife as a 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6040" y="1447920"/>
            <a:ext cx="638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ORAMA --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ediating social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4960" y="3048120"/>
            <a:ext cx="272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ERA @ 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discipl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31560" y="2209680"/>
            <a:ext cx="23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reflec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ual encounte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asional battl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31200" y="38088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4419720"/>
            <a:ext cx="6851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KNOWLEDGEMENT(S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thank the students involved, Viola van Alphen (FEWEB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m Bestebreurtje (FEW), Elbert-Jan Hennipman (FEW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last but not least Bjorn de Boer (FSW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heir enthusiasm, creativity, and of course their hard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ich led to an amazing resu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9840" y="1865160"/>
            <a:ext cx="636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PRESENCE IN A PARTICIPATORY CUL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 IN SECOND LI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 AND SUP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YOUR BREATH -- GOING L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DEVELOPMENT(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65080" y="7650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7840" y="53352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31200" y="38088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6400" y="1255680"/>
            <a:ext cx="63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rapid adoption of Second Life has been a surpri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5680" y="2590920"/>
            <a:ext cx="71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fe – Amsterdam – center of commerce / individual 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fe – business, corporate presence, / irregularities (2e ka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7120" y="4764240"/>
            <a:ext cx="65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es a respectable university, like V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to be present in Second Lif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40440" y="304920"/>
            <a:ext cx="63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PRESENCE IN A PARTICIPATORY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6480" y="5486400"/>
            <a:ext cx="83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hift of culture, from a media consumer culture to a participatory cul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users also actively contribut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8240" y="45720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Jenkins (2006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53360" y="1103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euromanc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21520" y="209376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taver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1295280"/>
            <a:ext cx="14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nowcras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6320" y="19414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laxx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9520" y="2590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pha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80920" y="27036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ld of warc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6320" y="33894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4680" y="30081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0560" y="338940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20080" y="3770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ick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6080" y="30492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30481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560" y="1066680"/>
            <a:ext cx="4693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ild initial (throwaway) proto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lore content creation tech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e tutorial(s) for content con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alyse technological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75480" y="3886200"/>
            <a:ext cx="213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ing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5760" y="16002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s /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26080" y="30492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61640" y="3733920"/>
            <a:ext cx="304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 FEW / FSW / FE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month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5040" y="1255680"/>
            <a:ext cx="75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cture room, research laboratory, information panels, photo gall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pol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67600" y="380880"/>
            <a:ext cx="59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98960" y="1143000"/>
            <a:ext cx="51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st idea that comes to mind, natural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o use Second Life to offer courses onl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080" y="2514600"/>
            <a:ext cx="729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t, although we do have plans to give lectures (college) on la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bably including the enactment of a particular ca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do consider this approach as rather nai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frankly we see no reason to include what may be consid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 outdated paradigm of learning in our virtual camp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re there might be more appealing alternati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ilarly, using the virtual laboratory for experi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ght not be the best way to offer courses, although, agai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do intend to provide a model of a living ce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owing students to study the structure, function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behavior of organic cells in virtual sp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7600" y="380880"/>
            <a:ext cx="59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3480" y="1219320"/>
            <a:ext cx="6287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eriencing the world in new w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ming new affili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paration for future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l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ink about the domain at a meta-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a complex system of inter-rela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 projec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tuated cognition in semiotic doma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720" y="5751360"/>
            <a:ext cx="45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 as a platform for SERIOUS GAM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OMMUNICATION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5880" y="380880"/>
            <a:ext cx="66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200" y="3962520"/>
            <a:ext cx="913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onstruction and deployment of humanoid intelligent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ays agents can provide an explanation in rich media con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earch as guidance in finding locations in large virtual 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virtual replicas of existing buildings to provide immersive access to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ffectiveness of the use of an intelligent humanoid agent wrt. l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between perceptions of fictitious versus existing character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ole of emotions in establishing communication between real and virtual hu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98960" y="3429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6840" y="1447920"/>
            <a:ext cx="769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 decision-making in a virtual environment the same as or simila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cision-making in the real worl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d what about investments, and starting a new compan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3:30:23Z</dcterms:created>
  <dc:creator>User name placeholder</dc:creator>
  <dc:description/>
  <dc:language>en-US</dc:language>
  <cp:lastModifiedBy>User name placeholder</cp:lastModifiedBy>
  <dcterms:modified xsi:type="dcterms:W3CDTF">2007-03-28T14:57:57Z</dcterms:modified>
  <cp:revision>6</cp:revision>
  <dc:subject/>
  <dc:title>Slide 1</dc:title>
</cp:coreProperties>
</file>