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B0D-F05D-4F8F-B464-807B6640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D0F-7D30-415C-9D13-67904ADE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58C-763E-4906-B06B-FFB0B948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BFE-5D2D-4C07-B51D-682CB50F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A54-AAF4-4EB3-8677-4AC3A1B2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479-1FAA-4F67-8E97-71282A58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E77-3D73-4120-A789-8AE40D73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42D-6BCC-412A-8384-7B43793F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FB0-DF3B-4A70-897F-7B441C3D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0C5-9222-421F-9511-58FD81E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3EE-5AD7-449C-8028-2DD4251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8C2-7F9B-4A68-B649-DA09C8C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91CE-8B6E-4907-8D1B-71ECF3DC8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2360" y="281952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640" y="28195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7080" y="259092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160" y="25909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360" y="2590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a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3680" y="304812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is a social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5909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2360" y="28195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7440" y="25909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259092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by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7780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25909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560" y="2438280"/>
            <a:ext cx="259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2000" y="327672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590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25909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83080" y="2819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1600" y="2590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 of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2720" y="28195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680" y="259092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is not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82000" y="28195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10600" y="2743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3040" y="259092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 comp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4920" y="281952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     game    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3440" y="281952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8195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entered multi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2720" y="274320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89840" y="2438280"/>
            <a:ext cx="38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1280" y="3276720"/>
            <a:ext cx="38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6-10-14T15:37:50Z</dcterms:modified>
  <cp:revision>5</cp:revision>
  <dc:subject/>
  <dc:title>Slide 1</dc:title>
</cp:coreProperties>
</file>