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248-51E9-45F9-9C02-DE6CEE51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459-0460-41F0-A174-9111F942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F9D8-A0A6-4E5B-8601-12FEDD20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8A2-F61E-44FF-8145-6351EB38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B5CE-D9F5-4B92-AF26-8DC97B76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501-0743-412A-A4A1-777BA68A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0AE-BD64-4EFE-A12C-16CA7F8E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7FF-661D-4BA8-8092-82880570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5EF-AB96-4981-9148-EA416405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00D-6656-4554-BC3F-3F661679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E0B-E157-43F7-99F7-6FB5A4AF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11F-1278-4B41-85F3-BBA8247E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1FF7-5A8B-409B-8034-5B143001E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9000" y="228600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46280" y="950760"/>
            <a:ext cx="451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0840" y="579600"/>
            <a:ext cx="383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ssage 2.0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0240" y="2514600"/>
            <a:ext cx="8602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ou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gita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ssag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term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selection of 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59400" y="5867280"/>
            <a:ext cx="71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rding to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sthetic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era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our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2514600"/>
            <a:ext cx="282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8720" y="327672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ios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4440" y="4952880"/>
            <a:ext cx="223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65720" y="3344760"/>
            <a:ext cx="18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3120" y="4572000"/>
            <a:ext cx="232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41480" y="601560"/>
            <a:ext cx="59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dia, viral(s), clips, casual game(s), message(s)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20080" y="545004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is, let’s begi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3600" y="685800"/>
            <a:ext cx="90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t when I start talking about the aesthetics of our time, it is better to annou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8160" y="992160"/>
            <a:ext cx="870876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do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ideo gam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ve to teach u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iterac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6520" y="380880"/>
            <a:ext cx="8091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ituated cogni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emiotic domai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35720" y="60336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88920" y="2209680"/>
            <a:ext cx="681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ing the world in new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ming new affil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paration for futu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48640" y="2286000"/>
            <a:ext cx="627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game ov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727520" y="4572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440" y="2743200"/>
            <a:ext cx="794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ink about the domain at a meta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omplex system of inter-relat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182880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3440" y="2057400"/>
            <a:ext cx="81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let the fun beg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3809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5480" y="5326200"/>
            <a:ext cx="82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 play (G), exploration (E), simulation  (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6:39:10Z</dcterms:created>
  <dc:creator>User name placeholder</dc:creator>
  <dc:description/>
  <dc:language>en-US</dc:language>
  <cp:lastModifiedBy>User name placeholder</cp:lastModifiedBy>
  <dcterms:modified xsi:type="dcterms:W3CDTF">2008-05-31T14:15:57Z</dcterms:modified>
  <cp:revision>8</cp:revision>
  <dc:subject/>
  <dc:title>Slide 1</dc:title>
</cp:coreProperties>
</file>