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6B78-63DB-4DA4-AA1C-1EB5F5CE5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757C-3343-4149-AA1C-35CDD10B4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1B5E-02CA-41A8-882F-2A02DC23F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905C-FC72-471A-8B22-7F6F12F5E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A3A0-0DE5-4F07-84F3-9508F26E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D905-3A7B-4C4A-9C70-E7E7B0E4B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7495-0AD1-44B9-B3D4-65764BBE0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F963-D971-4E15-BF0D-C1556CCA2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F729-8D54-44FA-9C57-711ECB705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952A-835D-4A27-AC1C-932D5DDD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D85C-1660-485D-8EB8-498EF99D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E64D-50BB-4E76-B16B-AE091F79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58634-5091-4CB8-906A-A1612C665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04360" y="838080"/>
            <a:ext cx="26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T AD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47800" y="1752480"/>
            <a:ext cx="7084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ate, Recommed, Regre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87240" y="3265560"/>
            <a:ext cx="576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ided tours / serial recommen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774920" y="304920"/>
            <a:ext cx="82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633360" y="5410080"/>
            <a:ext cx="188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on Eli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wen W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429000" y="304920"/>
            <a:ext cx="52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LLIGENT GUIDANCE – REALIZATION 2/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3238560" cy="2428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590920" y="1828800"/>
            <a:ext cx="3543120" cy="26575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791320" y="1371600"/>
            <a:ext cx="3085920" cy="23144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17680" y="5065560"/>
            <a:ext cx="33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NT TECHNOLOGY / D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32800" y="5486400"/>
            <a:ext cx="29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C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592360" y="457200"/>
            <a:ext cx="630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REMENTAL ADAPTATION OF RECOMMEND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46240" y="1447920"/>
            <a:ext cx="703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recommender system that generates a collection of artwor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ccordance with  the users' preferen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d on the rating of a small sample of ar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9720" y="68580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8760" y="2743200"/>
            <a:ext cx="424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perties  =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erio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rti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enre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120" y="3581280"/>
            <a:ext cx="826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 weighting scheme on the properti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at is a difference metric on the properti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graph can be create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iving a prioritized accessibility re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tween each artwork and a collection of related artwork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changing the weight for one of the proper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exampl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oc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in case the tour is generated for the actual museum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riority ordering may be changed, resulting in a different tou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17720" y="609588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497480" y="457200"/>
            <a:ext cx="42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IAL RECOMMENDER MODEL 1/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0560" y="1066680"/>
            <a:ext cx="2512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 = us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 = it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 = behavi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 = recommend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 = fea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97840" y="1676520"/>
            <a:ext cx="287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s --  U x I x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mmendations --  U x 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7240" y="3124080"/>
            <a:ext cx="372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distributed recommender(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 x F -&gt;  U x I x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date(s):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 x B -&gt; I x 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84360" y="4114800"/>
            <a:ext cx="31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RED FEATURE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45560" y="4684680"/>
            <a:ext cx="5119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[ time = 20sec, rating = r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[ artist = rembrandt, topic = portrait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[ artist(rembrandt) = r, topic(portrait) = r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497480" y="457200"/>
            <a:ext cx="42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IAL RECOMMENDER MODEL  2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886200" y="3429000"/>
            <a:ext cx="5000760" cy="3429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79080" y="114300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[ p1, p2 , ...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ere pk = [ f1 = v1, f2 = v2, ...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9080" y="2286000"/>
            <a:ext cx="556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_nightwatch = [ artist=rembrandt, topic=group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_guernica = [ artist=picasso, topic=group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700320" y="380880"/>
            <a:ext cx="24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ENT METRIC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768280" y="990720"/>
            <a:ext cx="337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 met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(x,y) = d(y,x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(x,y) &lt;= d(x,z) + d(z,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(x,x) = 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0160" y="2438280"/>
            <a:ext cx="51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1 = [ artist = rembrandt, topic = self-portrait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2 = [ artist = rembrandt, name = nightwatch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3 = [ artist = picasso, topic = self-portrait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4 = [ artist = picasso, name = guernica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0760" y="914400"/>
            <a:ext cx="404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f d( a1, a2 ) &lt; d( a1, a3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n r(topic) &lt; r(artis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3240" y="3998880"/>
            <a:ext cx="54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ice in sequence: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n |-&gt; s_{n+1} / [ a1, a2, ...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1360" y="4724280"/>
            <a:ext cx="475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n = [ time = 20sec, forward = ak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n = [ artist = rembrandt, topic = portrait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n = [ d(sn, ak ) &lt; d(sn, s_{n+1})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68720" y="5943600"/>
            <a:ext cx="306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KING / REFI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508560" y="457200"/>
            <a:ext cx="51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SURES FOR FEEDBACK DISCREPAN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43040" y="1143000"/>
            <a:ext cx="4388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mensions involved in r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sitive vs neg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dividual vs community/collabo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eature-based vs item-bas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8760" y="3200400"/>
            <a:ext cx="43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quence: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n |-&gt; s_{n+1} / [ a1, a2, ...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2360" y="3962520"/>
            <a:ext cx="611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utral interpretation -- use d(sn, ak) &lt; d(sn, s_{n+1}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sitive interpretation -- increase w(feature(ak)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gative interpretation -- decrease w(feature(s_{n+1})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360" y="5715000"/>
            <a:ext cx="392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ITIVE / NEGATIVE 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478920" y="457200"/>
            <a:ext cx="193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880" y="1295280"/>
            <a:ext cx="8082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 this paper we have shown how to adapt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guided tou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sed on tracking expert users by modifying the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weigh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attached to the expert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at contributed to the construction of this tou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application of these techniques requires that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choices are discre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hence do not apply to arbitrary navigation in virtual environment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nless we find proper ways to encode such navigation as a sm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inite collection of discrete step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so in the discrete case, however, we must be able to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normaliz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navigation path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, in order to compare and weigh the contribu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f the experts involv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e have generalized our approach to a wider class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serial recommender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, and indicated how to apply the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revision of rating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 an incremental fashion to adapt an existing tour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ersonal preferences, reflecting the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actual navigation behavior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of use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31840" y="304920"/>
            <a:ext cx="585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ert Advice and Regret for Serial Recommend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3200" y="762120"/>
            <a:ext cx="825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te, Recommend, Regret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Expert-based Approach to the Personalization of Guided Tou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360" y="228600"/>
            <a:ext cx="194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22960" y="2246400"/>
            <a:ext cx="63421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COMMENDER SYSTEMS -- BRIEF OVERVIE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THEMATICAL PRELIMINARIES -- DECISION THE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ABRAMOV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DOSS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UIDED TOURS IN DIGITAL DOSSI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ERSONALIZATION BY EXPERT RA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TELLIGENT GUIDANCE -- REALIZ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CREMENTAL ADAPTATION OF RECOMMEND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RIAL RECOMMENDER MO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NTENT METRIC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EASURES FOR FEEDBACK DISCREPAN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77440" y="304920"/>
            <a:ext cx="550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MMENDER SYSTEMS -- BRIEF OVERVIE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29200" y="914400"/>
            <a:ext cx="7422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ediction techniq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ocial-based -- dependent on (group) rating of item(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formation-based -- dependent on features of item(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ybrid methods -- combining predicto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09040" y="3313080"/>
            <a:ext cx="73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finition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rating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-- a value representing a user's inter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recommendatio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-- item(s) that might be of interest to the us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regre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-- a function to measure the accuracy of recommend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41720" y="5141880"/>
            <a:ext cx="737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ial recommender --    predicts sequen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n expert (obsessive) w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499480" y="417600"/>
            <a:ext cx="634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HEMATICAL PRELIMINARIES -- DECISION THE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640" y="1066680"/>
            <a:ext cx="8449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classical prediction theory a prediction is a sequence of el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1, x2, ... that results from a stationary stochastic proces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isk of the prediction is taken to be the expected val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the accumulat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o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unc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suring the discrepancy between predicted values and actual outcom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16240" y="2971800"/>
            <a:ext cx="474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ariant: [Cesa-Bianchi and Lugosi (2006)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81040" y="3468600"/>
            <a:ext cx="834048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forecaster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=  an entity that gives a prediction for an el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sed on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of one or more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expert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pert(s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 actual sequences stored in a databa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regre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functio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deviation of the forecaster with the actual outc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ediction task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 minimimizing the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regre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function by choo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best expert for advice for each element of a prediction sequ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use a weighting factor 0 &lt;= bi &lt;= 1 for each expert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 indicate the credibility of the experts' adv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183280" y="228600"/>
            <a:ext cx="364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BRAMOV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OSSIER 1/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724280" y="838080"/>
            <a:ext cx="4191120" cy="25146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3990960" cy="39625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18760" y="569880"/>
            <a:ext cx="236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ept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entation ga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39080" y="3998880"/>
            <a:ext cx="270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crete steps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vi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83280" y="5410080"/>
            <a:ext cx="31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ERT USER 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183280" y="304920"/>
            <a:ext cx="35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BRAMOV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OSSIER 2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38080" y="2514600"/>
            <a:ext cx="2438640" cy="2438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352680" y="1447920"/>
            <a:ext cx="2438640" cy="2438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791320" y="205740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34240" y="68580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allation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56520" y="4608360"/>
            <a:ext cx="260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discrete navi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73920" y="1255680"/>
            <a:ext cx="24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a della Dea Mad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3800" y="5334120"/>
            <a:ext cx="34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EXPERT USER 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038480" y="380880"/>
            <a:ext cx="45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UIDED TOURS IN DIGITAL DOSSI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4320" y="1219320"/>
            <a:ext cx="8038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ed (viewpoint) navigation in virtual spac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imation explaining, for example, the construction of an artwork, 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(narrative) presentation of a sequence of concept nod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825920" y="4952880"/>
            <a:ext cx="6845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ical requi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must be possible to normalize interaction sequen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734280" y="457200"/>
            <a:ext cx="47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ONALIZATION BY EXPERT RA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7680" y="1295280"/>
            <a:ext cx="8038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uccessor function S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r each node n S(n) = { n1,...,nk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ssign to each expert i a weight 0 &lt;= bi &lt;= 1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dicating the relevance of expert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each expe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ssume to have an advice ai = x, with weight bi and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n S(n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inal advice will be a(n) =ai(n) with weight bi  and w(ei) &gt; w(ej) for i != j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f no suitable advice ai(n) exists, we may query the user to dec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ich expert has preference, and adapt the weigh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r the experts according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05320" y="457200"/>
            <a:ext cx="52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LLIGENT GUIDANCE – REALIZATION 1/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1143000"/>
            <a:ext cx="8303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tering the information space according to the user's perspective,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lligent agents, that (pro) actively aid the user in searching the information sp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3505320" cy="22734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905120" y="3886200"/>
            <a:ext cx="3790800" cy="24591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4876920" y="2133720"/>
            <a:ext cx="3714480" cy="24098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29320" y="52578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OL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55240" y="54100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09:21:28Z</dcterms:created>
  <dc:creator>User name placeholder</dc:creator>
  <dc:description/>
  <dc:language>en-US</dc:language>
  <cp:lastModifiedBy>User name placeholder</cp:lastModifiedBy>
  <dcterms:modified xsi:type="dcterms:W3CDTF">2007-04-29T12:30:11Z</dcterms:modified>
  <cp:revision>3</cp:revision>
  <dc:subject/>
  <dc:title>Slide 1</dc:title>
</cp:coreProperties>
</file>