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50FD-CE5A-4C43-A75B-0765BD528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6751-400E-4F6E-89E9-25726BDBB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6C0B-FEFA-4E53-9F48-2E2AABD2E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61E3-E868-4B16-8242-6A7C5B6E6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45E-CF31-49BC-AE63-1792F394A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5B3B-CD03-48F1-84C3-99B84919C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E72-F741-453B-AA7A-98841BB7E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F3A9-3B87-47DD-B0A3-5C6A8BE4A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70CF-DA42-4911-96E8-D6144D5C5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697E-0D61-44A2-AAD9-D6E091849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72AC-B75D-49C9-81E3-55B5FBD7E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901-FF6A-4D53-96CA-5E75FC611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EEF-4FA4-43DE-B353-9613A8BAE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DAB8-743C-42C5-9C88-31FE7ED0F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BA3E-05F9-4867-B253-16A3C3065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455-4E68-44CA-A40C-2B010FD0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9EB-7CEC-40C0-ABF5-9BB10B9C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DC0-E2D1-4AD4-A40B-9D5C82AF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6D6-7808-41D1-8607-6B511F58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943-7A99-481B-8BC5-99F61B4E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5B1-D3AD-4C05-BBC8-CB33B9BC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71D-90B1-4717-801B-C447CAC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ACF-E790-4332-967C-18CBA15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B8D-D1F0-4CE2-BAE4-44E840DA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AFB-75B3-44DC-9A06-5A1477C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587-F251-48EF-B6EE-D054DFE7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8D3-90C5-4F76-8E97-69F19086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99C-587F-44C1-B910-ACC141DD28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FA86-9A18-4E48-B22B-87233EE00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OR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ich VRML Platform For Online Ga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4714560"/>
            <a:ext cx="4357800" cy="104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i Yin    Anton Eli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Desktop\title.jpg"/>
          <p:cNvPicPr/>
          <p:nvPr/>
        </p:nvPicPr>
        <p:blipFill>
          <a:blip r:embed="rId1"/>
          <a:stretch/>
        </p:blipFill>
        <p:spPr>
          <a:xfrm>
            <a:off x="6072120" y="3405240"/>
            <a:ext cx="3071880" cy="34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Share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6265-82A1-46E9-ACA3-0FF30C675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Work\PANORAMA\ShortPaper\figure3_2.jpg"/>
          <p:cNvPicPr/>
          <p:nvPr/>
        </p:nvPicPr>
        <p:blipFill>
          <a:blip r:embed="rId2"/>
          <a:stretch/>
        </p:blipFill>
        <p:spPr>
          <a:xfrm>
            <a:off x="1357200" y="1643040"/>
            <a:ext cx="631836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to other Online Gaming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and Open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the players and tools needed can be found free or open-source 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totally build up your game for f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performance of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ly a 3D game eng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 rendering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X9 fully support, you can port your effects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yalty fre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uthoring tools available(Flux, VrmlP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also build your world from Text Editor (It’s also very conveni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B4A-7DB3-400D-A0DB-3746C4340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advantage to other online Gaming plat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tibility problem among different play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find some worlds can be played as same using different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players have their own special feat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utomatic installation on today's brow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has to install the plug-in mannua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40AC-4DE7-47E7-AABC-544C169C8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design model for multi-user support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-source development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not only for games, but can also used in other web 3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Google UI to overcome the tedious work in programming the interface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C5C6-D5EB-43AB-B4FE-4B6D788B7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C857-1753-42F0-90B3-3D42CDFF8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in Traditional VRML G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Poly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ll tex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L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munication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u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 with other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Desktop\wasp-soccer1.jpg"/>
          <p:cNvPicPr/>
          <p:nvPr/>
        </p:nvPicPr>
        <p:blipFill>
          <a:blip r:embed="rId1"/>
          <a:stretch/>
        </p:blipFill>
        <p:spPr>
          <a:xfrm>
            <a:off x="2401920" y="2066760"/>
            <a:ext cx="4181400" cy="46450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80BB-6782-400D-A011-80EA63204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RML Game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polygon and texture thanks to the fast video c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X9 fully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der Program in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communication problems still haven’t been 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272F-FF5D-4588-83C9-A0C3C1426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Desktop\2.jpg"/>
          <p:cNvPicPr/>
          <p:nvPr/>
        </p:nvPicPr>
        <p:blipFill>
          <a:blip r:embed="rId1"/>
          <a:stretch/>
        </p:blipFill>
        <p:spPr>
          <a:xfrm>
            <a:off x="2262240" y="1994040"/>
            <a:ext cx="4906800" cy="594972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4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ternative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tibility Problem with other play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open enough for developer to exp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nsive charges, licenses, user number lim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P with so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cademic research, not mature en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only run  in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integrate and slow development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28608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4D20-C20B-4265-B7B0-BAAC5C5E5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NORAMA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to show self-refl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, Interactive and visually good l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 the awareness within the around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DC4-8E47-410C-B357-A62B2729B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VRML World For the Game and other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listic 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action with user (web 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AJAX + EAI to set up a communication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quent asynchronize communication with the server so you can talk with other gu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’t have to refresh the pag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Google Web Toolkits to make control panel and integrate with other web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come the weakness of UI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gantly  work with other web elements(form, text, tags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C13-1DA7-4F68-BD08-8F7338A1F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685-BD6A-4C22-BAC6-08A510E85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Work\PANORAMA\ShortPaper\figure1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0220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snfer value through the EAI inte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cument.Contact3D.setNodeEventIn(node, field, value); # send the value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.loadURL(“OnEvent(par)”, v); # call the function out of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AX request made in Javascript or the Google RPC at cli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t Timeout value smaller enough if you want to refresh it frequentl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page can be implemented in whatever way you lik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GI, PHP, Perl, and Java with a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 about the GTal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in Java to make the control interface in GWT saves lot of ti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’s not only on the HTML side, but also for the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gramming UI in VRML is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5967-EADB-428E-936F-AFD1A45ED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Jumping Tiger G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CA22-17DD-4687-8620-B9D008234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Work\PANORAMA\ShortPaper\figure2_2.jpg"/>
          <p:cNvPicPr/>
          <p:nvPr/>
        </p:nvPicPr>
        <p:blipFill>
          <a:blip r:embed="rId2"/>
          <a:stretch/>
        </p:blipFill>
        <p:spPr>
          <a:xfrm>
            <a:off x="1500120" y="1714680"/>
            <a:ext cx="6286680" cy="44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1:18:05Z</dcterms:created>
  <dc:creator>S.Yin</dc:creator>
  <dc:description/>
  <dc:language>en-US</dc:language>
  <cp:lastModifiedBy>User name placeholder</cp:lastModifiedBy>
  <dcterms:modified xsi:type="dcterms:W3CDTF">2007-04-06T09:23:31Z</dcterms:modified>
  <cp:revision>57</cp:revision>
  <dc:subject/>
  <dc:title>PANORAMA A Rich VRML Platform For Online Gaming</dc:title>
</cp:coreProperties>
</file>