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6664-3132-489F-9D1E-50ED9E034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FDF7-61D4-4F4D-B283-3232CECC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7179-7905-42D6-815A-C8914BAF8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F3B9-5F79-48E4-8564-E859B2CDC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B824-5D46-4A93-93E2-69FC6AF7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B0C5-8B28-4597-9871-B5CDAB7E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FC8E-8044-4593-9AF2-E9CE75BB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AEA3-980E-487A-8DDA-D089BEA3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588C-C637-4DD8-A5A5-0EF11197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3F25-0218-479E-B5F2-4806D596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6B19-C824-48CD-A133-1E3B1CCD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1363-14D6-4CAC-A71E-242DB87C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B12C-394C-4279-AAB2-F97AE567D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0160" y="2819520"/>
            <a:ext cx="638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you want to make a dif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4360" y="2514600"/>
            <a:ext cx="33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live in a networked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74560" y="289548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make i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39360" y="2590920"/>
            <a:ext cx="403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thing is connec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34800" y="2868480"/>
            <a:ext cx="43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the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51520" y="2514600"/>
            <a:ext cx="599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rything is intertwinkl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8880" y="2590920"/>
            <a:ext cx="447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 make it twink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92360" y="2590920"/>
            <a:ext cx="33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media @ 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69800" y="2819520"/>
            <a:ext cx="663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 science / Vrije Univers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8400" y="3200400"/>
            <a:ext cx="785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grap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media auth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lligent multimedia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sual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ject(s) multimedia / game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6600" y="914400"/>
            <a:ext cx="35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media @ 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90360" y="2819520"/>
            <a:ext cx="70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cs.vu.nl/~eliens/multi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90920" y="2590920"/>
            <a:ext cx="385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ke a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22240" y="777960"/>
            <a:ext cx="367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U @ Second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37400" y="4740120"/>
            <a:ext cx="38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lima Futura @ 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9720" y="222552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85440" y="260676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76720" y="3063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75600" y="382572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X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28440" y="1616040"/>
            <a:ext cx="16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ta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81480" y="3521160"/>
            <a:ext cx="189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fLif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0680" y="534996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rious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439360" y="2819520"/>
            <a:ext cx="35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media @ 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88920" y="2743200"/>
            <a:ext cx="724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fference can be negative or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64880" y="2819520"/>
            <a:ext cx="72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not everything is black and/or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24440" y="2819520"/>
            <a:ext cx="293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not the 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80360" y="2590920"/>
            <a:ext cx="50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not to make a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972160" y="2743200"/>
            <a:ext cx="26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8120" y="2743200"/>
            <a:ext cx="28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ame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8840" y="281952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thing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16400" y="2590920"/>
            <a:ext cx="33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media @ 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369800" y="2819520"/>
            <a:ext cx="663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 science / Vrije Univers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4:05:49Z</dcterms:created>
  <dc:creator>User name placeholder</dc:creator>
  <dc:description/>
  <dc:language>en-US</dc:language>
  <cp:lastModifiedBy>User name placeholder</cp:lastModifiedBy>
  <dcterms:modified xsi:type="dcterms:W3CDTF">2007-09-04T14:12:05Z</dcterms:modified>
  <cp:revision>6</cp:revision>
  <dc:subject/>
  <dc:title>Slide 1</dc:title>
</cp:coreProperties>
</file>