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DE2-FA68-4C47-8EE3-7E328F0C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B6F-15BF-4F4A-B2F9-A49EC714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25B-9D19-48D6-9247-B4046489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718-63EE-4E56-8160-EE059377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28C-E445-40E9-8939-F38B82FE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B68-294D-4FE2-ADCB-19955D69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BB6-33BA-40DE-81D1-75143842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245-35A3-4A12-84C3-733CC4B7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516-BE22-4FD8-BEF5-9C8038B9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8CF-EEAA-4A23-A4C2-F26DECE5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971-4684-4457-AC4A-C7A25DD1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D27-A44B-44D1-8909-633121AD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E428-DC06-48CB-860E-9975A0978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281952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ant to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4360" y="25146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networked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4560" y="2895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9360" y="25909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conn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4800" y="286848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1520" y="251460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thing is intertwink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87560" y="2514600"/>
            <a:ext cx="53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make it twink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28800" y="2514600"/>
            <a:ext cx="50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0160" y="281952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eit Twente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3200400"/>
            <a:ext cx="43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active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h media mash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m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5760" y="838080"/>
            <a:ext cx="652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ve technology / new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160" y="274320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bachelor.utwente.nl/cre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2590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457200"/>
            <a:ext cx="30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a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560" y="541008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w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9760" y="23623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2590920"/>
            <a:ext cx="12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5360" y="29718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920" y="36576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6560" y="175248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2040" y="365760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Lif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0600" y="51055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ous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0666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83240" y="685800"/>
            <a:ext cx="543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eativ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360" y="525780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1520" y="52578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ma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31720" y="253044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8120" y="253044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10240" y="380988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88920" y="27432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can be negative or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4880" y="28195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everything is black and/or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440" y="28195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0360" y="2590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ot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2160" y="2743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840" y="281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3880" y="2590920"/>
            <a:ext cx="36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440" y="274320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eit Twente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8-03-20T15:12:22Z</dcterms:modified>
  <cp:revision>7</cp:revision>
  <dc:subject/>
  <dc:title>Slide 1</dc:title>
</cp:coreProperties>
</file>