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0E2B-E316-4393-B7C4-1654EBEB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73D9-DFC8-4DFD-A017-39375C1E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B83-228C-4D74-8BFA-1A297841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D40A-9A94-4F9B-AA24-B44FAEB3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FF04-B048-4B20-8D4E-F964E58E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682A-0CE5-4F08-8818-ED569C44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68A3-9AFE-4E51-BF3A-08A90F42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90B6-A2BA-4F2D-965A-92BDDDED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E70F-B50D-4649-BC59-5F6DC732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FAC5-E46B-443A-9E69-E44456DD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7678-2A92-45D2-BA8E-0DAA3175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957-193B-4148-98EE-7C573DA0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BF5E-DE31-43B6-B7E2-7D44CD3C4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0160" y="2819520"/>
            <a:ext cx="63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want to make a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4360" y="2514600"/>
            <a:ext cx="33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ve in a networked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74560" y="28954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make i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39360" y="2590920"/>
            <a:ext cx="403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thing is conn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34800" y="2868480"/>
            <a:ext cx="43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th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51520" y="2514600"/>
            <a:ext cx="599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rything is intertwink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87560" y="2514600"/>
            <a:ext cx="532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 make it twink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828800" y="2514600"/>
            <a:ext cx="50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e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0160" y="2819520"/>
            <a:ext cx="60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eit Twente,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3200400"/>
            <a:ext cx="4358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active vis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ch media mash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ame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5760" y="838080"/>
            <a:ext cx="652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ve technology / new 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3160" y="2743200"/>
            <a:ext cx="60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bachelor.utwente.nl/cre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90920" y="2590920"/>
            <a:ext cx="38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457200"/>
            <a:ext cx="30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mar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72560" y="541008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ew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9760" y="23623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2590920"/>
            <a:ext cx="12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5360" y="297180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0920" y="36576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X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6560" y="175248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ta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2040" y="3657600"/>
            <a:ext cx="189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Lif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40600" y="510552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ious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10666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83240" y="685800"/>
            <a:ext cx="543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reative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360" y="525780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11520" y="52578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mar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31720" y="253044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38120" y="2530440"/>
            <a:ext cx="26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10240" y="380988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88920" y="2743200"/>
            <a:ext cx="72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fference can be negative or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064880" y="2819520"/>
            <a:ext cx="72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not everything is black and/or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24440" y="281952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0360" y="2590920"/>
            <a:ext cx="50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not 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972160" y="2743200"/>
            <a:ext cx="26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8120" y="274320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ame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8840" y="281952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13880" y="2590920"/>
            <a:ext cx="36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e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440" y="2743200"/>
            <a:ext cx="60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eit Twente,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4:05:49Z</dcterms:created>
  <dc:creator>User name placeholder</dc:creator>
  <dc:description/>
  <dc:language>en-US</dc:language>
  <cp:lastModifiedBy>User name placeholder</cp:lastModifiedBy>
  <dcterms:modified xsi:type="dcterms:W3CDTF">2008-03-20T15:12:22Z</dcterms:modified>
  <cp:revision>7</cp:revision>
  <dc:subject/>
  <dc:title>Slide 1</dc:title>
</cp:coreProperties>
</file>