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56B-F6D8-4095-B823-36C544C9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6B5-B664-40C9-A9B0-7860AAD3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387-8F93-4E2E-94D2-079614D4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456-3ECB-434D-9E31-E2531A6D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E24-33EA-40E3-8882-B1C08ECE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144-6F23-406F-B04F-9DA1E542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4A4-1E94-4C08-A8CF-5F38356E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79C-4914-4967-A8BA-8E6C9503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4B2-DE2E-41A6-9514-0B026169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025-5634-44E6-9FBA-79DE009E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991-830B-4D84-A436-3BBA6F76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D4A-257E-44A3-92C2-9C89012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3AE-AEAD-4B7C-A6BF-74E893603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6280" y="950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0840" y="57960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ssage 2.0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0240" y="2514600"/>
            <a:ext cx="8602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ou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git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s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term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election of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59400" y="5867280"/>
            <a:ext cx="71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rding 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thetic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our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514600"/>
            <a:ext cx="282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8720" y="327672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i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4440" y="4952880"/>
            <a:ext cx="22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5720" y="334476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3120" y="4572000"/>
            <a:ext cx="232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1480" y="60156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, viral(s), clips, casual game(s), message(s)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00" y="685800"/>
            <a:ext cx="90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 when I start talking about the aesthetics of our time, it is better to annou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8160" y="992160"/>
            <a:ext cx="87087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ideo gam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5480" y="5326200"/>
            <a:ext cx="82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 play (G), exploration (E), simulation  (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8-05-31T14:15:57Z</dcterms:modified>
  <cp:revision>8</cp:revision>
  <dc:subject/>
  <dc:title>Slide 1</dc:title>
</cp:coreProperties>
</file>