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7BEF-7C78-43DF-A2E9-C9F74F23E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ACD9-8B2C-4346-A3C3-76AB5B58B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6A5-E57D-4A7B-AAA4-4262AAE6D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C926-49BF-441A-B38D-7054F6DD4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A7AB-317D-44DD-A762-F09E98C16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140B-1B39-4A42-AB1E-7ABB7224C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69FF-BB5F-4BBB-AECC-4A8932FE9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80C4-04B4-43E8-BB97-F0A6130C7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C4FD-F609-4045-835B-578629B9D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04D8-53F3-4194-8A4B-7CA8070CD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43D4-D462-4FE1-98BC-9141A5F44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4278-C22A-4307-8F74-D79BA884C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9A07-3930-4C82-8C65-C2C9DD629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002A-B440-4C3B-8B58-53B0C73AC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73BD-E9A1-41A2-9B08-EB12D04E8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6A0-7DD3-4590-9430-7090397F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BE2-F4A5-4E4B-A615-56FE1FB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426-B46E-4DDF-8865-5B46B16B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41C-F45A-48FC-907B-33019153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CFD-FE69-45CA-991A-5F8A0CA5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0CA-1E05-41C8-B374-39FEA974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40A-C3D2-4610-864E-DD07353E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93A-E27F-4A5A-A89D-9B83E34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BF2-4BAA-4382-A74A-4C7D48AD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F02-D4A5-4136-9233-A0B0F6C9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81C-C00D-428A-9B22-BD17B9C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991-57F6-45D4-A005-AD302F4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A15F-D235-4A32-ADA8-C059F5477F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D017-DE53-4C99-8256-03E05E76D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OR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ich VRML Platform For Online Ga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4714560"/>
            <a:ext cx="4357800" cy="104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i Yin    Anton Eli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Desktop\title.jpg"/>
          <p:cNvPicPr/>
          <p:nvPr/>
        </p:nvPicPr>
        <p:blipFill>
          <a:blip r:embed="rId1"/>
          <a:stretch/>
        </p:blipFill>
        <p:spPr>
          <a:xfrm>
            <a:off x="6072120" y="3405240"/>
            <a:ext cx="3071880" cy="34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Share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F9DA-847E-4A9E-9E9A-96499FAFC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Work\PANORAMA\ShortPaper\figure3_2.jpg"/>
          <p:cNvPicPr/>
          <p:nvPr/>
        </p:nvPicPr>
        <p:blipFill>
          <a:blip r:embed="rId2"/>
          <a:stretch/>
        </p:blipFill>
        <p:spPr>
          <a:xfrm>
            <a:off x="1357200" y="1643040"/>
            <a:ext cx="631836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to other Online Gaming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and Open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the players and tools needed can be found free or open-source 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totally build up your game for f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performance of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ly a 3D game eng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 rendering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X9 fully support, you can port your effects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yalty fre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uthoring tools available(Flux, VrmlP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also build your world from Text Editor (It’s also very conveni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71CE-173D-4BCF-9382-5786F3787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advantage to other online Gaming plat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tibility problem among different play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find some worlds can be played as same using different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players have their own special feat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utomatic installation on today's brow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has to install the plug-in mannua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01AD-7E93-4A7F-9E3F-FF9B602EC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design model for multi-user support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-source development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not only for games, but can also used in other web 3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Google UI to overcome the tedious work in programming the interface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C55F-0955-4875-AD6F-442D7F875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036-9BE4-4222-90D3-0A2CFD41C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in Traditional VRML G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Poly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ll tex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L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munication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u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 with other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Desktop\wasp-soccer1.jpg"/>
          <p:cNvPicPr/>
          <p:nvPr/>
        </p:nvPicPr>
        <p:blipFill>
          <a:blip r:embed="rId1"/>
          <a:stretch/>
        </p:blipFill>
        <p:spPr>
          <a:xfrm>
            <a:off x="2401920" y="2066760"/>
            <a:ext cx="4181400" cy="46450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8788-FCEC-422B-915D-83A369522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RML Game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polygon and texture thanks to the fast video c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X9 fully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der Program in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communication problems still haven’t been 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FDA1-2BF4-41C9-B684-ADB7DF6F2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Desktop\2.jpg"/>
          <p:cNvPicPr/>
          <p:nvPr/>
        </p:nvPicPr>
        <p:blipFill>
          <a:blip r:embed="rId1"/>
          <a:stretch/>
        </p:blipFill>
        <p:spPr>
          <a:xfrm>
            <a:off x="2262240" y="1994040"/>
            <a:ext cx="4906800" cy="594972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4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ternative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tibility Problem with other play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open enough for developer to exp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nsive charges, licenses, user number lim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P with so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cademic research, not mature en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only run  in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integrate and slow development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28608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D6AD-CF3D-40C9-B2EC-8B7262BE9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NORAMA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to show self-refl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, Interactive and visually good l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 the awareness within the around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BE5C-3B1E-428D-AA8B-DBA224F41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VRML World For the Game and other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listic 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action with user (web 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AJAX + EAI to set up a communication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quent asynchronize communication with the server so you can talk with other gu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’t have to refresh the pag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Google Web Toolkits to make control panel and integrate with other web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come the weakness of UI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gantly  work with other web elements(form, text, tags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A862-57DE-43BE-BDE1-831F65098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0D87-6114-4A23-88F2-0F52EC838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Work\PANORAMA\ShortPaper\figure1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0220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snfer value through the EAI inte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cument.Contact3D.setNodeEventIn(node, field, value); # send the value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.loadURL(“OnEvent(par)”, v); # call the function out of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AX request made in Javascript or the Google RPC at cli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t Timeout value smaller enough if you want to refresh it frequentl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page can be implemented in whatever way you lik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GI, PHP, Perl, and Java with a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 about the GTal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in Java to make the control interface in GWT saves lot of ti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’s not only on the HTML side, but also for the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gramming UI in VRML is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77BB-0C93-4648-A6AC-132B0A131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Jumping Tiger G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0494-F02F-4C03-A685-CFD8C3385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Work\PANORAMA\ShortPaper\figure2_2.jpg"/>
          <p:cNvPicPr/>
          <p:nvPr/>
        </p:nvPicPr>
        <p:blipFill>
          <a:blip r:embed="rId2"/>
          <a:stretch/>
        </p:blipFill>
        <p:spPr>
          <a:xfrm>
            <a:off x="1500120" y="1714680"/>
            <a:ext cx="6286680" cy="44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1:18:05Z</dcterms:created>
  <dc:creator>S.Yin</dc:creator>
  <dc:description/>
  <dc:language>en-US</dc:language>
  <cp:lastModifiedBy>User name placeholder</cp:lastModifiedBy>
  <dcterms:modified xsi:type="dcterms:W3CDTF">2007-04-06T09:23:31Z</dcterms:modified>
  <cp:revision>57</cp:revision>
  <dc:subject/>
  <dc:title>PANORAMA A Rich VRML Platform For Online Gaming</dc:title>
</cp:coreProperties>
</file>