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59EA-ACB9-41ED-93E4-A8817EF2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744-C414-4DEA-A1CF-17B0B407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771-1DCE-4167-97FE-72D03B0C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3F9-D10A-49D8-9F2C-E7A378FA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8E93-8D0E-43EC-9F6E-1073D1E9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325-6BFD-4437-90F1-A3D57C32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940-9D01-430C-865C-C5851C12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723-FB3C-44EF-9146-6986BB94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3C27-18CB-436D-99F9-1FA171AB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692C-D9DB-4B6C-8B66-BD26617B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FC4D-7572-456D-9B3A-5567A2B1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C97-3F1E-45E8-B41F-57E02388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B328-4249-4956-942F-DE9E647A0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05120" y="182880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3440" y="2057400"/>
            <a:ext cx="81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let the fun beg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7680" y="1371600"/>
            <a:ext cx="79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's be serious – X is not a (simple) g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6160" y="3429000"/>
            <a:ext cx="69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in { ICT, climate, promotion, …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83960" y="1789200"/>
            <a:ext cx="39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ference model for serious g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7720" y="2590920"/>
            <a:ext cx="851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reference model for serious ga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77640" y="1198440"/>
            <a:ext cx="8563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service management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outco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learning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intellectual satisf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study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corporate id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onsequenc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job qualif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cenario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problem(s) service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war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service level agre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2600" y="533520"/>
            <a:ext cx="70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service management ga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88560" y="251460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engine architecture require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6160" y="2362320"/>
            <a:ext cx="760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dering system -- 2D/3D graph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put system -- user inter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nd system -- ambient and re-a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sics system -- for the blockbus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imation system -- motion of objects and charac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tificial intelligence system -- for real challenge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7840" y="838080"/>
            <a:ext cx="25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3040" y="2438280"/>
            <a:ext cx="642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chnical and artistic iss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49000" y="228600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e creati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20080" y="545004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is, let’s begi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1143000"/>
            <a:ext cx="8915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laying video gam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s a waste of ti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63800" y="20970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ly, let’s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47360" y="541008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class gam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5040" y="685800"/>
            <a:ext cx="810252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 is the move from the verbal to the visual a los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a gai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it be that, due to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 it has to be handled visuall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 verbal is no longer adequat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9600" y="1295280"/>
            <a:ext cx="7678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do video gam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ve to teach u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teracy and learnin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6520" y="380880"/>
            <a:ext cx="8091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ituated cogni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emiotic domai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35720" y="60336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88920" y="2209680"/>
            <a:ext cx="6818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ing the world in new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ming new affil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eparation for futur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8640" y="2286000"/>
            <a:ext cx="627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game ov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727520" y="4572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8440" y="2743200"/>
            <a:ext cx="794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ink about the domain at a meta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omplex system of inter-relate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6:39:10Z</dcterms:created>
  <dc:creator>User name placeholder</dc:creator>
  <dc:description/>
  <dc:language>en-US</dc:language>
  <cp:lastModifiedBy>User name placeholder</cp:lastModifiedBy>
  <dcterms:modified xsi:type="dcterms:W3CDTF">2007-02-26T19:07:00Z</dcterms:modified>
  <cp:revision>4</cp:revision>
  <dc:subject/>
  <dc:title>Slide 1</dc:title>
</cp:coreProperties>
</file>