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EB84-B5BA-4E60-8323-22455C81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E5F-C384-43D1-9917-DBF397FA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07B-5CE2-45E6-AE7D-892D99F8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3B9-CDEB-467C-B269-129B64C4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3C3-CFF1-4930-B2FA-E3D1C410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129-3F54-43FE-B967-01911288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9C7-F63A-4DC8-9C53-1DBC20CF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EA1D-7EBC-4AB7-AD58-4C1B7F91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B6F-934F-4528-B133-D5DEA4AE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DB0-A33F-45D2-BCDD-8F8376A9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3AF-A3D7-4C55-81CB-012CE0E5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B90-05F8-4CE1-B5BF-780E53A3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D255-CF46-488F-A7E8-31A3281AA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2360" y="2819520"/>
            <a:ext cx="205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81640" y="2819520"/>
            <a:ext cx="20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or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1640" y="28195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14240" y="28954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as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81280" y="2362320"/>
            <a:ext cx="214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34290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582720" y="281952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77080" y="259092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581280" y="2362320"/>
            <a:ext cx="214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4290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78160" y="259092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76360" y="259092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14240" y="28954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as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03680" y="3048120"/>
            <a:ext cx="53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is a social con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25909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2360" y="281952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pl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77440" y="25909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76720" y="259092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by th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77800" y="259092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259092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iv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2720" y="281952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560" y="2438280"/>
            <a:ext cx="259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2000" y="3276720"/>
            <a:ext cx="25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62320" y="259092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game pl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76720" y="259092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583080" y="2819520"/>
            <a:ext cx="12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61600" y="259092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s of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582720" y="28195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62680" y="2590920"/>
            <a:ext cx="33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 is not 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581640" y="28195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429000" y="2819520"/>
            <a:ext cx="21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582000" y="281952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10600" y="27432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363040" y="2590920"/>
            <a:ext cx="406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 compu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4920" y="2819520"/>
            <a:ext cx="49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     game    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83440" y="2819520"/>
            <a:ext cx="21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05120" y="281952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centered multi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2720" y="2743200"/>
            <a:ext cx="20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29000" y="2819520"/>
            <a:ext cx="21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89840" y="2438280"/>
            <a:ext cx="388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1280" y="3276720"/>
            <a:ext cx="381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 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6-10-14T15:37:50Z</dcterms:modified>
  <cp:revision>5</cp:revision>
  <dc:subject/>
  <dc:title>Slide 1</dc:title>
</cp:coreProperties>
</file>