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BAD-E3FE-4DA7-A900-C15D7A25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741-C5F7-49C8-91FD-AB6191BD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914-8A7D-4F46-85C6-B2CA283D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AD6-FC56-4EE6-89EA-DB51BEF3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11A-EE78-45C3-ADD4-E4372765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2E0-30B9-4F2F-AF91-EE6F72C2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725-827F-4E67-BFFC-DF092C71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5DD-678B-4AD1-9872-0F64A027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086-82C9-423F-B64A-E64FBC09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29E-8D0E-4AAE-83A4-97EBECBB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EAE-FBF6-48FB-A18A-26227E66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0CC-4707-4BDE-97AB-91966B16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965F-D164-4FA3-85BD-25038A168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8880" y="2590920"/>
            <a:ext cx="44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236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8400" y="3200400"/>
            <a:ext cx="78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media auth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lligent multimedia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(s) multimedia / 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6600" y="91440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360" y="2819520"/>
            <a:ext cx="70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s.vu.nl/~eliens/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2240" y="777960"/>
            <a:ext cx="36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7400" y="4740120"/>
            <a:ext cx="38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ima Futur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9720" y="22255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5440" y="26067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76720" y="3063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5600" y="38257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28440" y="16160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1480" y="352116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680" y="53499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9360" y="281952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640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7-09-04T14:12:05Z</dcterms:modified>
  <cp:revision>6</cp:revision>
  <dc:subject/>
  <dc:title>Slide 1</dc:title>
</cp:coreProperties>
</file>