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5B7E-9D80-46BC-9E5A-F3C32F5AF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CDDF-5772-4CEC-9259-56116087F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4C92-DDE1-449E-ACE4-9121C6F06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9453-8145-40C3-BD6B-FE9E2747C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7927-41B3-419B-970C-18FB57B38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E8F5-FBF2-4183-BC33-F1CD62EA9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C8C0-F6DB-4B5D-9BCD-3566B00A8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8AB8-9B37-49A6-8144-293E9E877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85C7-235A-4F18-AE67-8FA4147A1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CA85-45B4-426D-918D-7BB361806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1539-57E9-47D1-AB90-35795FFF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733B-9353-455A-8346-030F9A053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6A3F4-FBC3-4503-BC22-5DEBD739B3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16400" y="1371600"/>
            <a:ext cx="383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Arial"/>
              </a:rPr>
              <a:t>孫子兵法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9T11:54:42Z</dcterms:created>
  <dc:creator>User name placeholder</dc:creator>
  <dc:description/>
  <dc:language>en-US</dc:language>
  <cp:lastModifiedBy>User name placeholder</cp:lastModifiedBy>
  <dcterms:modified xsi:type="dcterms:W3CDTF">2007-03-29T11:55:04Z</dcterms:modified>
  <cp:revision>1</cp:revision>
  <dc:subject/>
  <dc:title>Slide 1</dc:title>
</cp:coreProperties>
</file>