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29C9-3763-4DFB-A38E-9E7AF83EC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AACC-0035-46EF-9BAF-E42C5DBE9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0A3-4F75-41E6-9483-68727AAF3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C2D4-0A9A-4359-924D-E0334D41C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0A7-85B5-4DD2-800C-82E493482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F74E-494A-4E71-94EF-AA226E10F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E487-C691-48FF-8BB6-D98CB1A85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DBA5-60CE-4B21-998A-090ABA99E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8353-1843-48DF-B6C2-0AF79B088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634E-3863-481D-A971-4001A111B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F15A-D238-4030-8B0B-4F1E89322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C4B4-2F07-4447-9C47-B42D36CFA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9E73-3C03-4D7B-AB02-F7DB6D312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5DDE-9AEB-4ACE-81C7-392D1AD52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11A7-BD13-4DCF-8A6D-0DF7642FE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0B2-FA27-4426-880B-ABAD21EE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2D6-9D87-4E1F-83DD-1CCAB5CC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BB7-BC80-4F9A-BE51-A63BF828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0FA-77E7-4030-95D2-4FBDF8A1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7F5-A368-42F7-AD62-48A4DF81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41F-DB7D-4743-8794-C59ACB6B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3F6-9B3D-465E-93B0-B2AE299B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5CF-1678-4A9D-B915-33A98DE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377-0E99-40F5-93FA-724EB688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738-5CEB-4C82-90D6-5B26002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45D-C49A-4819-8DF5-9BDA132A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5FC-F25C-4AE6-B42F-302B48A2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3EC3-3174-4BC2-94B7-26B6E5210C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F096-C731-44DA-8665-C0050CCC4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OR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ich VRML Platform For Online Ga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4714560"/>
            <a:ext cx="4357800" cy="104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i Yin    Anton Eli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tor\Desktop\title.jpg"/>
          <p:cNvPicPr/>
          <p:nvPr/>
        </p:nvPicPr>
        <p:blipFill>
          <a:blip r:embed="rId1"/>
          <a:stretch/>
        </p:blipFill>
        <p:spPr>
          <a:xfrm>
            <a:off x="6072120" y="3405240"/>
            <a:ext cx="3071880" cy="34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to Share Appl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A732-DD43-49B3-B60D-C1F5E15EE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Work\PANORAMA\ShortPaper\figure3_2.jpg"/>
          <p:cNvPicPr/>
          <p:nvPr/>
        </p:nvPicPr>
        <p:blipFill>
          <a:blip r:embed="rId2"/>
          <a:stretch/>
        </p:blipFill>
        <p:spPr>
          <a:xfrm>
            <a:off x="1357200" y="1643040"/>
            <a:ext cx="6318360" cy="44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to other Online Gaming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and Open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the players and tools needed can be found free or open-source 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totally build up your game for fr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performance of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ly a 3D game eng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 rendering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X9 fully support, you can port your effects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yalty fre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uthoring tools available(Flux, VrmlP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also build your world from Text Editor (It’s also very conveni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0B07-A4D1-444B-96E5-B14BE97FF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advantage to other online Gaming plat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tibility problem among different play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find some worlds can be played as same using different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players have their own special feat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utomatic installation on today's brow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has to install the plug-in mannua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AA8C-40E7-4CB1-BE69-BC0DC8F0E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design model for multi-user support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-source development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not only for games, but can also used in other web 3d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Google UI to overcome the tedious work in programming the interface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F4F5-E6A7-4D20-9D49-56E85A696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2D6B-0ABA-4323-91CE-F5EAAFEBE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in Traditional VRML G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Poly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ll tex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or L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ommunication fac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u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rporate with other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Desktop\wasp-soccer1.jpg"/>
          <p:cNvPicPr/>
          <p:nvPr/>
        </p:nvPicPr>
        <p:blipFill>
          <a:blip r:embed="rId1"/>
          <a:stretch/>
        </p:blipFill>
        <p:spPr>
          <a:xfrm>
            <a:off x="2401920" y="2066760"/>
            <a:ext cx="4181400" cy="46450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1FBF-B13B-4E6E-91F0-8D07DBAB1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RML Game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polygon and texture thanks to the fast video c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X9 fully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der Program in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communication problems still haven’t been sol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9D62-2E9C-4F07-B5E3-965EBB671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istrator\Desktop\2.jpg"/>
          <p:cNvPicPr/>
          <p:nvPr/>
        </p:nvPicPr>
        <p:blipFill>
          <a:blip r:embed="rId1"/>
          <a:stretch/>
        </p:blipFill>
        <p:spPr>
          <a:xfrm>
            <a:off x="2262240" y="1994040"/>
            <a:ext cx="4906800" cy="594972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4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ternative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tibility Problem with other play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open enough for developer to exp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nsive charges, licenses, user number lim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P with so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cademic research, not mature enou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only run  in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integrate and slow development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28608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DC2A-BC90-4066-8459-4DB888992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NORAMA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to show self-refl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lligent, Interactive and visually good l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 the awareness within the around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26D4-8ECE-431B-853F-507319069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VRML World For the Game and other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listic 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action with user (web 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AJAX + EAI to set up a communication fac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quent asynchronize communication with the server so you can talk with other gu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’t have to refresh the pag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Google Web Toolkits to make control panel and integrate with other web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come the weakness of UI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gantly  work with other web elements(form, text, tags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8F0C-06CC-4D83-97E9-25E1DA3B5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D637-AD8C-4789-BCA0-3F7EDD062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Work\PANORAMA\ShortPaper\figure1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02200" cy="37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snfer value through the EAI inte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cument.Contact3D.setNodeEventIn(node, field, value); # send the value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owser.loadURL(“OnEvent(par)”, v); # call the function out of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AX request made in Javascript or the Google RPC at cli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t Timeout value smaller enough if you want to refresh it frequentl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page can be implemented in whatever way you lik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GI, PHP, Perl, and Java with a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 about the GTal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in Java to make the control interface in GWT saves lot of ti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’s not only on the HTML side, but also for the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gramming UI in VRML is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366D-2640-4106-B837-3E86F830D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Jumping Tiger G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A508-45E2-4DE0-8BB5-F9844532F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Work\PANORAMA\ShortPaper\figure2_2.jpg"/>
          <p:cNvPicPr/>
          <p:nvPr/>
        </p:nvPicPr>
        <p:blipFill>
          <a:blip r:embed="rId2"/>
          <a:stretch/>
        </p:blipFill>
        <p:spPr>
          <a:xfrm>
            <a:off x="1500120" y="1714680"/>
            <a:ext cx="6286680" cy="44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1:18:05Z</dcterms:created>
  <dc:creator>S.Yin</dc:creator>
  <dc:description/>
  <dc:language>en-US</dc:language>
  <cp:lastModifiedBy>User name placeholder</cp:lastModifiedBy>
  <dcterms:modified xsi:type="dcterms:W3CDTF">2007-04-06T09:23:31Z</dcterms:modified>
  <cp:revision>57</cp:revision>
  <dc:subject/>
  <dc:title>PANORAMA A Rich VRML Platform For Online Gaming</dc:title>
</cp:coreProperties>
</file>