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B8C-9B61-4DD0-938E-48387D53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969-A196-4C5D-8B6C-CF065CDB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B17-3A14-4091-8BFA-DDE9BA68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64B-B22A-460F-A2B4-9C0DC565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806-731D-46C1-A1F2-3EAEE6F6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64A-4004-4169-B660-75102B97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B5E-C6DF-4BD1-887F-E313C62A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05C-94E2-4645-9499-BE4B1901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E00-55E5-40CD-9F93-AFB3411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D32-41D6-44F2-9C20-3095FED7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8C1-9BD0-47CB-B0F6-4038A750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30B-9470-4FA7-A4FD-22B9EDF5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C411-B4CF-42EE-986E-3EC5A613D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6280" y="950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0840" y="57960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ssage 2.0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0240" y="2514600"/>
            <a:ext cx="8602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ou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git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s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term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election of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59400" y="5867280"/>
            <a:ext cx="71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rding 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thetic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our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514600"/>
            <a:ext cx="282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8720" y="327672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i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4440" y="4952880"/>
            <a:ext cx="22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5720" y="334476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3120" y="4572000"/>
            <a:ext cx="232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1480" y="60156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, viral(s), clips, casual game(s), message(s)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00" y="685800"/>
            <a:ext cx="90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 when I start talking about the aesthetics of our time, it is better to annou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8160" y="992160"/>
            <a:ext cx="87087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ideo gam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5480" y="5326200"/>
            <a:ext cx="82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 play (G), exploration (E), simulation  (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8-05-31T14:15:57Z</dcterms:modified>
  <cp:revision>8</cp:revision>
  <dc:subject/>
  <dc:title>Slide 1</dc:title>
</cp:coreProperties>
</file>