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9CC-4425-48C3-8CDF-21130CF7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AB9-EE1C-495A-BF66-67D38CE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FFD-8ADB-4182-9737-97B4CD5B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D614-10C0-4E3C-A15C-222A6A08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1015-6702-485D-98CD-BE76639E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46AD-D5C6-422C-9B56-3F11919D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E418-983A-465D-9D85-B52155AC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8135-DD60-41E3-82C5-08AF196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7236-7159-4ECC-8336-B6130CE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BEF-541C-49FF-B0A2-BAE3D346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834F-B2B6-499B-9CDF-A2B09A9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736-E175-44D5-8FF4-013466EB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9C03-226B-4C3A-8B9A-7D0704C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E92F-6CAE-4886-80B3-29BEECE2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0B2A-C0AF-4F87-A7F1-EDFD6CF7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72E-DD41-45C8-A4ED-7681D151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8DBB-70B2-484D-9AB7-605170D5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A5A0-F835-44C3-92FD-107EA47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DF9-6FC0-43E6-87B8-9F3BD1EF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12AE-1CC0-48C8-8F82-AABA3C2B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6C8-C898-47F2-905C-798A773B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C02-5235-4416-AE87-DF83AD99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176-634B-40CE-A51C-1A5D532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3DC-2AAB-405B-BFD4-EDDA0882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5122-9494-4114-826C-63FE2B89EAB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2000" cy="1131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812000" y="5726160"/>
            <a:ext cx="1332000" cy="1131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3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7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8 maart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89DC-CF6C-410B-BE14-A35A91B73D7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Verdana"/>
              </a:rPr>
              <a:t>Werken</a:t>
            </a:r>
            <a:r>
              <a:rPr b="0" lang="en-US" sz="5400" spc="-1" strike="noStrike">
                <a:solidFill>
                  <a:srgbClr val="ccecff"/>
                </a:solidFill>
                <a:latin typeface="Verdana"/>
              </a:rPr>
              <a:t> met de Hammer editor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noe Bhikhar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5943600"/>
            <a:ext cx="434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U Masterclass Game Developme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maart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verzic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t is Hamm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mmer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pstar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is gereedscha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xtures en materi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i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 is Hamme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mmer is de level editor van Half-Lif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ammer kun je een omgeving maken, objecten en personages toevoegen, AI instellen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Hammer wordt er NIET geprogramm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mer opstarten (1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documents_hammer_image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5327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mer opstarten (2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documents_hammer_image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487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sis gereedscha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ck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ection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ity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ure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extures en materi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xture = plaatje geschikt voor Ha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terial = texture met speciale eigensc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Dimens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Belic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Interactie effect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pil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ompileren = Speelklaar maken van m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documents_hammer_image13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2857680" cy="4003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038480" y="2514600"/>
            <a:ext cx="4496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Het compileren bestaat uit 3 del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BSP: Wer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VIS: Zichtbaar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RAD: L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menva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mmer is de level editor van Half-Life 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ammer opstarten gaat via selectie van Source SDK en “current gam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asis gereedschap: Block, selection, entity en texture to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aterials zijn textures met speciale eigensch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ompileren is het speelklaar maken van de map en gebeurt in 3 stapp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oe Bhikharie</dc:creator>
  <dc:description/>
  <dc:language>en-US</dc:language>
  <cp:lastModifiedBy>student</cp:lastModifiedBy>
  <dcterms:modified xsi:type="dcterms:W3CDTF">2006-03-02T11:30:5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