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0D5C-189E-445B-9D76-5D693721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658-D7A5-49A6-98C7-5B098F67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F75-DAC6-4C0C-B343-19FB1715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8600-4D8B-47BC-A73A-5A9718AB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855-B9A1-4502-A1E4-49A77085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7692-5D7D-40BF-B9A3-513E31E5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7ED3-6DDF-4FFB-A83B-A565D26F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E00F-74C7-461F-9503-056A15A9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66D9-BA00-43E0-85B2-218D82EB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BCAF-4F2F-485F-867C-1F1FC537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CF8F-9DC5-4DD7-9FA4-C8D32D2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81B-72F9-45AA-A9C5-4B2A005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AE13-2055-4EF1-9F23-894C50E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75E1-265F-4C63-923A-264BCAE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30C5-8F96-4E2E-A7F0-4C621B7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2AA7-9E9F-43EF-A1D3-27E43D11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3DC-B973-4C77-B495-922D2798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6335-B07E-4913-B1ED-7D4FA6EB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B7F6-0EA6-4508-88D8-676FA4A6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C25F-4B76-44F5-9279-DC275F8E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B94-71CD-47C0-BC5A-EED8966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AFF-FDD8-4A06-B776-A59AE27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109-EBAE-4960-8F1E-8F22B44C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C03-FA2E-46D8-8EF9-D995377C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CC14-92A5-434F-972B-E1272E41C6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E02C-4296-497B-A05F-CF43033884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sterclas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Game Developmen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actic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Kin Hung Ch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?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oorbeelden van keywords die je kan gebruik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vlo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taf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plafo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_buiten_stoe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zie hand-out voor me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e hebben een winnaar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is een wedstijd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at je design zien aan het einde van masterclass lessen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 zelf zijn de jury (niet omkoopbaar)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winnaars krijgen: Half-Li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pakket met T-Shirt + eeuwige roem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k er iets moois van, maa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Vrije Universiteit, docenten, medewerkers en studenten zijn NIET verantwoordelijk voor je cont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97288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eel succes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nneer / Waa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 de tweede masterclass l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um: 15 maart 2006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catie: Zaal S353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pje van 2, aan 1 compute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gaan we (niet) doen?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t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ammer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ler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(Dit zul je o.a. leren op de VU als je hier komt studere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gaan we (niet) doen?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ginnen bij de basi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n (van een bestaand level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uwe objecten bouw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amwork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5943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(Screenshot van het level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41400" y="0"/>
            <a:ext cx="7302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 opdrach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k een zo origineel mogelijk leve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e opdrachten op hand-out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anpassen van ninja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s er nog tijd over is: objecten bouw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orbereiding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 voorbereiding voor de volgende keer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m foto’s met digitale camera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dat bij de volgende l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texture van maken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ficaties staan in handout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bruik ze in je level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orbereiding (2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ok ma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atjes van Internet afhale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ar: wel nog bewerk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deel: minder originee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es creatief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e? (1/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4051440" cy="1981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504960" y="2438280"/>
            <a:ext cx="251460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572000" y="3428640"/>
            <a:ext cx="1905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523880" y="3733560"/>
            <a:ext cx="91440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00200" y="205740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standsnaam v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 plaatje /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4200" y="373392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oek plaatje 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oor te blad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0640" y="57150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er vul je 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eyword” 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3428640" y="4495320"/>
            <a:ext cx="205740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36880" y="53658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uk hierop 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t in de level 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et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20:25:18Z</dcterms:created>
  <dc:creator>Kin Hung Cheng</dc:creator>
  <dc:description/>
  <dc:language>en-US</dc:language>
  <cp:lastModifiedBy>student</cp:lastModifiedBy>
  <dcterms:modified xsi:type="dcterms:W3CDTF">2006-03-06T12:30:45Z</dcterms:modified>
  <cp:revision>31</cp:revision>
  <dc:subject/>
  <dc:title>Masterclass Game Design</dc:title>
</cp:coreProperties>
</file>