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0A5B-A6F8-4927-B02A-8BBBED1A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A79-92C2-451F-809E-32FDE3E5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069-D2F4-44E8-9461-84B6011B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D6C-2C31-406D-B50C-54772E37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8997-D485-44BC-A555-623B0773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EF1C-220B-423C-A29F-FD40BEF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E882-7DF6-451C-9B82-7238974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3623-E08F-4B2B-82B7-6AE6307E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F729-07AE-4E91-BEDF-7CB903E8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C91C-F3A6-459F-AD34-EED5F19C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1747-DA92-4A8C-9335-48F06F8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ABF7-B3DF-4D97-A9C6-A336571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BD4A-23F0-44BF-8104-0244AC4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2A7B-0B74-4B46-9B70-1C8CEDC8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0CE4-5CFC-4CD8-9370-73F78A48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FC5-407B-4D97-8D4D-D3D1742E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C782-4AC8-447A-A212-E7C5C57E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ED5-C4CA-43A8-ACEE-DDE096CF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DC6-FD1F-4A90-B8C5-65D916CA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46B-6A83-430B-AF57-840EEA2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DC8-1466-4B07-97D9-CC6F03B6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5E1-0585-4D74-B58E-C08D8BDC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59C8-A3C4-4804-AF74-BE3A2F6B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B3E-D466-4169-ABCA-FB5D067E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5AF-2D1A-400A-ABBC-493AB02058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691-2CF4-4796-969B-33BF77C4A80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Making of VU-Life</a:t>
            </a:r>
            <a:r>
              <a:rPr b="0" lang="en-US" sz="5400" spc="-1" strike="noStrike" baseline="30000">
                <a:solidFill>
                  <a:srgbClr val="ccec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m VUga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t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[Insert photo here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et beg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et voorjaar van 2005 begon het VUgame projec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lf-Life 2 gekozen als platf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en ervaring met deze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rschillende disciplines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game maken met de Half-Life 2 engin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ontwikkelen van materiaal voor een Masterclas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deeën voor ga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kkert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efb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scape the ro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ebroch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uz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albaarheid van ideeë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euze voor informatiebrochure vanweg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formatieve karak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riendelijke omgev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voudig van opz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vulling Mastercla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or beginn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mplat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ndleid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jdslij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8 maart 2006: Eerste Masterclass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12: Academische geloofwaardigheid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14: VU heeft als enige een topstudie Game Develop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ekomst 2025: Uniforme toepasbaarheid van game technologie in het onderwij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4:25:08Z</dcterms:created>
  <dc:creator>Team VUgame</dc:creator>
  <dc:description/>
  <dc:language>en-US</dc:language>
  <cp:lastModifiedBy>student</cp:lastModifiedBy>
  <dcterms:modified xsi:type="dcterms:W3CDTF">2006-03-01T11:50:32Z</dcterms:modified>
  <cp:revision>28</cp:revision>
  <dc:subject/>
  <dc:title>The Making of VU-Life2</dc:title>
</cp:coreProperties>
</file>