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9557-9EA3-4D2D-9082-447AB44AA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o staat op plek van filmpjes verde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erste s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erste spelcomp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erste spelautoma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erste spel karakter met merchandise lij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jdsbeeld: Computers komen net kijken, sky is the limit, als Higinbotham patent had aangevraagd dna waren we nu allemaal Amerika aan het betalen voor spel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o komt voor het eerst v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disc komt op het verkeerde moment 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 spel dat met een omweg uit rusland kw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van een serie god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jdsbeeld: Markt stort in in 1984, veel kleine bedrijven gaan faill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orbraak van vechtsp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erste first person sho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er controversi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 besturen van me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jdsbeeld: Veel nieuwe mogelijkheden, meer geweld in spel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box, GameCube, Playstation 2, 128 bit, online g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uwe shooter met zeer goeie gameplay en graphics, online, VU-Lif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werelden, zeer grote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jdsbeeld: Online spelen, alles moet mooier en b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m maar op dan met die vrag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1935-75B0-4F52-8524-57EDBCC6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1A97-6D93-4FF4-A137-CA5764E1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BC22-EF08-412E-BA7C-9A1C7AAF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AC7-7139-4E0A-96CB-EE0C58C2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4608-C6AC-4D3E-9370-6B5BCBE4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C1A6-113B-4CB1-B27E-A3990AFF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8EEB-6544-4A4F-8BCD-84DFDD08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3787-6554-4161-8251-660980DE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8865-1143-48D5-A9FA-34C7854E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BFD5-F23D-4675-998F-6D7A2FD4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0CEA-2172-4853-B76B-3E2EE7DB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9EE-7A1C-42A9-8FD8-DE5C42D7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12C0-F2E5-4A2B-81D4-6CBB14E4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95C1-520D-41F2-96B6-97518DF1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2505-1E54-43E8-9F32-5C9A4D67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2D9F-A318-4A6D-99BE-FFE7FBD8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96C7-4230-41D3-A649-D889897C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284-B68E-466B-B8A9-0B54C2A2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0B61-7EEC-4F97-BB21-F8CE2B4F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E7C-5A7B-4678-AB15-56920C37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D21-49DD-41CF-BFB6-C66DBE37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1FC-ACD1-4317-808F-592D5F2C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6DB-8E63-4EC0-BBE4-8F2A0A21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E16-C889-4C81-AA83-F143911C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318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812000" y="5726160"/>
            <a:ext cx="13320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27BF-7F7A-429B-9AAA-11A9BD32F1C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31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812000" y="5726160"/>
            <a:ext cx="13320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3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7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1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4233-1CC3-4232-9D4D-F5057293FD2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Verdana"/>
              </a:rPr>
              <a:t>De geschiedenis van videogam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iels Rietke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94360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U Masterclass Game Developmen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art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verzic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t 198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80 – 199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90 – 2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 2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rage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348000" y="4481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808360" y="4435560"/>
            <a:ext cx="3635280" cy="24224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t 198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58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nnis for Tw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68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gnavox Odyss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71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80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c-m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366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31640" y="1600200"/>
            <a:ext cx="80647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81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nkey K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83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ragon’s L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85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t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89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m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808360" y="4456080"/>
            <a:ext cx="3600360" cy="24019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980 - 199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55154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08360" y="4457880"/>
            <a:ext cx="3600360" cy="2400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31640" y="1600200"/>
            <a:ext cx="80647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91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reet Fighter 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93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97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magedd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000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Si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990 - 200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1274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808360" y="4457880"/>
            <a:ext cx="3600360" cy="2400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a 200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808360" y="4457880"/>
            <a:ext cx="3598920" cy="24001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31640" y="1600200"/>
            <a:ext cx="806472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001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±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d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generatie game cons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004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lf-Li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004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ld of Warcr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7890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789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2085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800360" y="1700280"/>
            <a:ext cx="5472000" cy="36478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rage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9385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iels Rietkerk</dc:creator>
  <dc:description/>
  <dc:language>en-US</dc:language>
  <cp:lastModifiedBy>student</cp:lastModifiedBy>
  <dcterms:modified xsi:type="dcterms:W3CDTF">2006-03-06T14:41:2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