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6.jpeg" ContentType="image/jpeg"/>
  <Override PartName="/ppt/media/image7.gif" ContentType="image/gif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47BB-18F5-4D11-929D-A9DA63E9E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C674-D50A-4A4D-A0DE-AF089E88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0F99-8D56-4ABE-8970-41A7C76A7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E841-89C1-4AB0-99BD-55DB71547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AEBD-5B69-44B8-A844-29F28C13E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C63F-6372-4A9A-BAEA-79C633CE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E3C05-FD06-47E6-9A86-672D95AC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6B7D-4C51-4994-A472-A157B62B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5262-F718-419D-BAAD-9823F38C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F1729-4796-4D3A-824A-47048EB6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3C8A-3033-4436-8D83-B3BEE4EB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D5E6-B809-466D-8677-5F1AD624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F5EF4-2646-42DC-AA1D-5ACE3F10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121D1-C1C4-4BF0-B97F-E4ACD849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C6BD-0358-4649-A002-8E85B249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56E8-466A-451A-98A9-D65FD9E30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61D1-826B-4AAC-A4C0-95DD3C7BC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ECFC-BBB0-4EEA-8FD7-E827FC93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1B63-2725-4172-9A50-76F56274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11BD-791E-4D1B-8EE1-FEAA9017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036F-42A5-4DF9-98F8-5AA97FD2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62BA-ADC4-4908-AA1A-D91BA6FE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CD88-8E57-415E-A302-E101DDD4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0803-05AA-402A-AE1B-3ABD8A1C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32000" cy="11318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812000" y="5726160"/>
            <a:ext cx="1332000" cy="1131840"/>
          </a:xfrm>
          <a:prstGeom prst="rect">
            <a:avLst/>
          </a:prstGeom>
          <a:ln w="0">
            <a:noFill/>
          </a:ln>
        </p:spPr>
      </p:pic>
      <p:grpSp>
        <p:nvGrpSpPr>
          <p:cNvPr id="2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7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2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90B8-DA13-45C9-88A3-9458BD2C2F4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32000" cy="1131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812000" y="5726160"/>
            <a:ext cx="1332000" cy="113184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83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7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12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E8DF-5911-4DA2-8C53-49CA87C054E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Verdana"/>
              </a:rPr>
              <a:t>Modelleren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eve Stom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2362320" y="5943600"/>
            <a:ext cx="434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VU Masterclass Game Developmen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maart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V mapp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662940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Rend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Uitrekenen van de resulterende afbeeld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Raytra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Scanli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Radios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427640" y="2349360"/>
            <a:ext cx="40608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Voorbeel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5720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im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kele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oom structuu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ey fram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651640" y="1557360"/>
            <a:ext cx="3157560" cy="30463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340000" y="3824280"/>
            <a:ext cx="287352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uidige modell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roeiend aantal polygon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tion Captu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imat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672000" y="2744640"/>
            <a:ext cx="522108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hou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ve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grammatuu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as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perat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xtu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ic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nder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imer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uidige modell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ve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D Graphic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prite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D Graphic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pgevulde driehoeken met een textu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lyg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ertic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t zijn vertices &amp; polygone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en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tic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een punt met drie coordinaten: x, y en z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lygon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zijn de vlakken van een object en bestaan uit N vertices (punte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Programmatuu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3D Studio MAX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Blend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Cinema 4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Lightwav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May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Softimage XS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Zbrus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500px-Gingerbreadman_zspheres_to_detailed_mesh" descr=""/>
          <p:cNvPicPr/>
          <p:nvPr/>
        </p:nvPicPr>
        <p:blipFill>
          <a:blip r:embed="rId1"/>
          <a:stretch/>
        </p:blipFill>
        <p:spPr>
          <a:xfrm>
            <a:off x="3581280" y="3654360"/>
            <a:ext cx="541044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 vorm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asisvor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ol, cylinder, kegel en kubu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perat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ota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cal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tru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ubdiv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Extrude &amp; Subdiv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4648320" y="396252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78" name="3d-extrude" descr=""/>
          <p:cNvPicPr/>
          <p:nvPr/>
        </p:nvPicPr>
        <p:blipFill>
          <a:blip r:embed="rId4"/>
          <a:stretch/>
        </p:blipFill>
        <p:spPr>
          <a:xfrm>
            <a:off x="304920" y="4114800"/>
            <a:ext cx="41148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xtu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V-mapp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jecter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chniek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lan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ylindric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utomati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l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Lic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Typ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Ambi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Direction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Poi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Spo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Are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207040" y="160020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207040" y="3941640"/>
            <a:ext cx="29192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udent</cp:lastModifiedBy>
  <dcterms:modified xsi:type="dcterms:W3CDTF">2006-02-11T11:37:45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