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8043-ED4A-46D1-84C0-74EBD7E3D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7D36-5112-4B85-B666-E87BC6BF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6EB1-B8FF-4750-ACFC-EA4C0CBC6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D238-99C5-4B4C-AFCC-18CD75F4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FEE6-38C2-4837-AAC1-E7A45E11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DC1C-3B1C-4647-8DDD-9F1310A5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D30D-F80A-4321-B99A-48B0E23E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F331-1F1E-4A18-BC3C-7EC29A36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AC5C-641D-4558-B678-E614947F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CA51-F7AA-4B84-A316-C744837E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0BA0-8F36-4C04-AA8E-2368B0FB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5815-7AA2-49BF-99B0-734B0D5F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D18D-2E84-4F4E-9E4E-96B11D1C55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9810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vatar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: 3D representation of  human users or autonomous agen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1677960" cy="3122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81480" y="3809880"/>
            <a:ext cx="161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-anim1_1f" descr=""/>
          <p:cNvPicPr/>
          <p:nvPr/>
        </p:nvPicPr>
        <p:blipFill>
          <a:blip r:embed="rId1"/>
          <a:stretch/>
        </p:blipFill>
        <p:spPr>
          <a:xfrm>
            <a:off x="2286000" y="0"/>
            <a:ext cx="480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3000"/>
            <a:ext cx="88390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ite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center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 children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scaleOrientation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addChildr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remove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2209680"/>
            <a:ext cx="82296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Displacer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Int32  coordIndex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Vec3f  displacements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SFString name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placer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9810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r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ordIndex [ 7, 12, 21, 18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ments [ 0 0.0025 0, 0 0.005 0, 0 0.0025 0, 0 0.001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me "l_eyebrow_raiser_action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manoid No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838080"/>
            <a:ext cx="861048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Humanoid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Center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Size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humanoidBody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String   info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joints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egments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ites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version     "1.1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viewpoints  [ ]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mplate fi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295280"/>
            <a:ext cx="853452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0: Level of Articulation Zero (HumanoidRoot Joint On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0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1: Level of Articulation One (Typical low-end real-time 3D hierarch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1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2: Level of Articulation Two (MPEG-4 w2229 docu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2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3: Level of Articulation Three (Full H-Anim Hierarchy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3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eating H-anim Compliant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2" name="AVATAR1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3962520" cy="40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_han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91440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#VRML V2.0 utf8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Transform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0.15 0.7 -0.0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rotation 0 0 1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_shape Shap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material  Material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mbientIntensity 0.200                           shininess 0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iffuseColor 0.76863 0.61961 0.549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missiveColor 0.0 0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pecularColor 0.0 0.0 0.0}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geometry Sphere {radius 0.07}}]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85800"/>
            <a:ext cx="81532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l_hand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l_hand0.wrl"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VATAR2" descr=""/>
          <p:cNvPicPr/>
          <p:nvPr/>
        </p:nvPicPr>
        <p:blipFill>
          <a:blip r:embed="rId1"/>
          <a:stretch/>
        </p:blipFill>
        <p:spPr>
          <a:xfrm>
            <a:off x="2841480" y="685800"/>
            <a:ext cx="3411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98108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nimated versus Non-anim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exture-based versus non-texture-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udio-embedded versus non-audio-embed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compliant versus non-H-anim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09480" y="228600"/>
            <a:ext cx="769644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vl5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  "vl5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  0.0028 1.0568 -0.07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base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base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0.0044 1.6209 0.02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skull.wrl"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skull_tip Sit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_tip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   0.0050 1.7504 0.00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Inline { url "hair.wrl" }]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Authoring Tool: Poser 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POSER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6960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laxxun Avatar Stud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avatarstudio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PORTMAN" descr=""/>
          <p:cNvPicPr/>
          <p:nvPr/>
        </p:nvPicPr>
        <p:blipFill>
          <a:blip r:embed="rId1"/>
          <a:stretch/>
        </p:blipFill>
        <p:spPr>
          <a:xfrm>
            <a:off x="3057480" y="609480"/>
            <a:ext cx="2905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portmanblue2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ment for a scripting language for Avatar An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13372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po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llelism and synchron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sy rotation calc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H-anim 1.1 Specif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523880"/>
            <a:ext cx="762012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(Humanoid animation working group, 200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http://www.h-anim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oals:  the creation of libraries of humanoids for reusable in Web-based application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s well as authoring tools that make it easy to create humanoids and animate them in various way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 specifies a standard way of representing humanoids in VRML97/X3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Avatar: Y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2952720" cy="51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828800"/>
            <a:ext cx="8305920" cy="52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are arranged to form a hierarch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egment node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describes the body part associated with that join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define locations relative to the segment. Sites can be used for attaching accessories, like hat and cloth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specify which vertices within the segment correspond to a particular feature or configuration of vertic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80880"/>
            <a:ext cx="914400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Joi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Node       children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llimit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limit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String     name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rotation        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scale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scale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stiffness [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translation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ulimit  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219320"/>
            <a:ext cx="883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shoulder Joint {  name "l_shoulder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67 1.36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elbow Joint {  name "l_elbow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96 1.07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wrist Joint {  name "l_wrist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213 0.811 -0.033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hand Segment {  name "l_hand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 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forearm Segment {  name "l_fore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upperarm Segment {  name "l_upper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gme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219320"/>
            <a:ext cx="86868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egme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Center  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Size     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Vec3f   centerOfMass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children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Node    coord         NU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displacers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Float   mass             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Float   momentsOfInerti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[ 0 0 0 0 0 0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String  name   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add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removeChildren   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A Standard Joints/Segment Diagram of H-anim 1.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08:12:55Z</dcterms:created>
  <dc:creator>h</dc:creator>
  <dc:description/>
  <dc:language>en-US</dc:language>
  <cp:lastModifiedBy>h</cp:lastModifiedBy>
  <dcterms:modified xsi:type="dcterms:W3CDTF">2006-06-18T10:06:01Z</dcterms:modified>
  <cp:revision>19</cp:revision>
  <dc:subject/>
  <dc:title>Avatar Design</dc:title>
</cp:coreProperties>
</file>