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5B64-97CD-48B9-A575-7839DDD71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5988-19B6-4F6C-AC8E-9FF028CB5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B954-5442-47E1-8372-405482BAA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5441-50F1-4E62-B3F0-4D923DAD9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B816-13AA-4925-8480-44E746320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70AF-82AC-4ED4-8B94-BC11C7815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5D21-0D0B-4DE1-9C9E-A1856BDA2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3868-8E75-40D5-8E21-2A25836C4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0405-9007-4A37-AA66-04F68F97D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3F3F-BE9A-4AFA-B952-6B15444E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1D5E-D3CE-42D7-AE60-1D606684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41AA-97EB-49F8-AD14-637B8FA6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3E6FE-F559-49CA-A2F6-5B81E52543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 Multiple Web Agents </a:t>
            </a:r>
            <a:br>
              <a:rPr sz="4400"/>
            </a:b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Example 1: 3D Soccer Agen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00200" y="2666880"/>
            <a:ext cx="5970600" cy="26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2280" y="457200"/>
            <a:ext cx="8991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waspsoccer 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 = 'soccer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Load the game ... 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:= new(game_clock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Pulse := new(clock_pulse(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will start in 5 seconds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total playing time is ~w seconds,~n', [TimeLeft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lay(5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280" y="304920"/>
            <a:ext cx="8991720" cy="58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startup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all := new(ball(ball, 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GoalKeeper1 :=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ew(goalKeeper(goalKeeper1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GoalKeeper2 :=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ew(goalKeeper(goalKeeper2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UserMe := new(soccerPlayerUser(me_red10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9 := new(soccerPlayer(blue9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8 := new(soccerPlayer(blue8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7 := new(soccerPlayer(blue7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Red2 := new(soccerPlayer(red2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Red3 := new(soccerPlayer(red3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11 := new(soccerPlayer(blue11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Red11 := new(soccerPlayer(red11,Clock)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waspsocc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gnitive model of soccer ga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cogmodel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647712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tion Specification in Agent’s Knowledge-Bas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1905120"/>
            <a:ext cx="72388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-at-b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-to-b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oo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ss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ve-arou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-and-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ar-ball-then-ki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685800"/>
            <a:ext cx="85341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soccerPlayer : [common_process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…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ccerPlayer(Name, 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Int32(Name,whichChoice, 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~w thread active.~n', [Name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Name,Clock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neral Activity Loo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57400" y="20574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ke the default 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2514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32004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 the information of the current sit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71600" y="44197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d how to react (find an intended ac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14800" y="3657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47920" y="56386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ke  the intended action ( do ac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14800" y="49528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81680" y="5791320"/>
            <a:ext cx="1752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8534520" y="2133720"/>
            <a:ext cx="0" cy="3657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172200" y="213372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685800"/>
            <a:ext cx="807732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Name,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2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ball(Name,bal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PositionInforma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Name,ball,X,Y,Z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ball,Yball,Zball,Dist,Xgoal,Zgoal,Dist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findHowtoReact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Name,ball,X,Y,Z,Xball,Yball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ball,Dist,Xgoal,Zgoal,Dist1,Actio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oAc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Action,Name,ball,X,Y,Z,Xball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Yball,Zball,Dist,Xgoal,Zgoal,Dist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Left &lt;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quitGame(Na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76320"/>
            <a:ext cx="9296280" cy="75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%findHowtoReact(+Player,+Ball,+X,+Y,+Z,+Xball,+Yball,+Zball,+Distball,+Xgoal,+Zgoal,+Distgoal,-Action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Ball,_,_,_,_,_,_,Dist,_,_,Dist1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hoot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=&l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1 =&lt; kickableGoal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Ball,_,_,_,_,_,_,Dist,_,_,Dist1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pass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=&l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1 &gt; kickableGoal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Player,_,_,_,_,X1,_,_,Dist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un_to_bal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ieldAreaInformation(Player,_,_,FieldMin,FieldMax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eldMin =&lt; X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eldMax &gt;= X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Player,_,_,_,_,X1,_,_,Dist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aroun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ieldAreaInformation(Player,_,_,FieldMin,_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1 &lt; FieldMin,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45720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Player,_,_,_,_,X1,_,_,Dist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aroun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ieldAreaInformation(Player,_,_,_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eldMax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1 &gt; FieldMax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_,_,_,_,_,_,_,_,_,_,_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533520"/>
            <a:ext cx="9144000" cy="70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hoot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,Player,Ball,_,_,_,X1,Y1,Z1,_,Xgoal,Zgoal,Dist1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kick_ball_to_position(Ball,X1,Y1,Z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goal,0.0,Zgoal,Dist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pass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,Player,Ball,X,Y,Z,X1,Y1,Z1,_,_,_,_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CoTeammate(Player,X,Y,Z,Teammat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2,_,Z2,_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Passing(Player,Ball,X,Y,Z,X1,Y1,Z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ammate,X2,_,Z2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un_to_bal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,Player,Ball,X,Y,Z,_X1,_Y1,_Z1,_Dist,_,_,_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un_and_trac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Player,Ball,X,Y,Z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kickableDistance,run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unstep,runSleepTim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 Soccer Ag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8800"/>
            <a:ext cx="85345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gent Mode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 Decision Making Ag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ultiple Agent Managem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 Non-distributed Multiple Agent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gnitive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sics of soccer ball: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otion Equatio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2438280"/>
            <a:ext cx="7772400" cy="34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x=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+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* 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y=y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+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y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* t - 1/2 * g* t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urier New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z=z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+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z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* 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ere &lt;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 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 z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gt; be the initial position of the soccer bal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gt; be the velocity vector of the kick, and g be the constant accele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sics of soccer ball in DL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914400"/>
            <a:ext cx="8229600" cy="51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kickedwithStaticStart(Ball,X0,Y0,Z0,Vx,Vy,Vz,BallSleepTime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total is Vy/4.9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teps :=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BallSleep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’ is steps*BallSleepTim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’ is X0+ Vx*T’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Y’ is Y0+ Vy*T'-4.9*T'*T’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’ is Z0+ Vz*T’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Position(Ball,X',Y',Z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++steps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teps &gt; Ttotal//BallSleepTim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blem: Line-up Phenomen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90720" y="2286000"/>
            <a:ext cx="701028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lu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219320"/>
            <a:ext cx="78487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ution 1:  obtaining more information of players, and add more computatio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blem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unsuitable for real-time ag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ution 2: Introducing Distributed behavioral models, li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ocks, herds, and schools in artificial lif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blem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ot intelligent enou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666880" y="4191120"/>
            <a:ext cx="365760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mulated Flocks </a:t>
            </a:r>
            <a:br>
              <a:rPr sz="4400"/>
            </a:b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Craig Reynolds 1987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905120"/>
            <a:ext cx="79250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Collision Avoidance: avoid collisions with nearby flockma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Velocity Matching: attempt to match velocity with nearby flockma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Flock Centering: attempt to stay close to nearby flockma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 Multiple Web Agents </a:t>
            </a:r>
            <a:br>
              <a:rPr sz="4400"/>
            </a:b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Example 2: Dog wor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6916680" cy="41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ogworld.wr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914400"/>
            <a:ext cx="8305920" cy="62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ROTO Doggie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Vec3f posi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Rotation 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whichChoice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 id     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Bool  bark  FALS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Transform { translation IS 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IS ro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 Dog {whichChoice IS whichChoice id IS id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und {minFront 10 minBack 10 intensity 2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urce AudioClip { loop IS bark url ["bark.wav"] }} ]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 children [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dog1 Doggie {position 0.0 0.0 -10.0 whichChoice 0 id 1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dog2 Doggie {position -1.0 0.0 -15.0 whichChoice 0 id 2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dog10 Doggie {position 5.0 0.0 -16.0 whichChoice 0 id 10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62120" y="1143000"/>
            <a:ext cx="761976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TERNPROTO Dog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Rotation ro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whichCh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Vec3f 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 id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["./dog.wrl"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048120" y="2743200"/>
            <a:ext cx="249696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havioral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80010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maste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v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then dogs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ve with the mas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maste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tand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then dogs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ar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and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ve to the mas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maste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s slowing dow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then dogs stop move,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ook 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mas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and bar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 the master is too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r awa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rom a dog, the dog moves  back to the mast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04920" y="228600"/>
            <a:ext cx="8686800" cy="67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dogworld 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 = './dog/dogworld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Load the game ...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:= new(game_clock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Pulse := new(game_clock_pulse(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game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will start in 5 seconds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total playing time is ~w seconds,~n', [TimeLeft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5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startup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1 := new(dog(dog1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2 := new(dog(dog2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7 := new(dog(dog7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8 := new(dog(dog8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9 := new(dog(dog9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10:= new(dog(dog10, Clock)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dogworl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neral Consider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905120"/>
            <a:ext cx="72388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ams:  Red and Bl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yers:  Goalkeeper,  SoccerPlayerAgent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PlayerUs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 Ba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 Fie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re Bo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refer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52280" y="152280"/>
            <a:ext cx="8839440" cy="66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game_cloc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time_left = 5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_game_time(Time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 := time_lef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game_time(Time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_left := Tim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game_cloc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game_clock_pul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ame_clock_pulse(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1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game_time(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eft is Time -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set_game_time(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eft &lt;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game_clock_pul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6320" y="228600"/>
            <a:ext cx="8991360" cy="66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dog 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sleeptime = 25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small_movement = 0.2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big_movement = 0.4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enlargement = 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max_distance = 4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g(Dog, 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Int32(Dog,whichChoice, 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~w thread active.~n', [Dog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Dog,Clock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Dog,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5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game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Informa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Dog, DogPosition, MasterPosition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sterRotation1, MasterPosition2, MasterRotation2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findHowtoReact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Dog,DogPosition,MasterPosition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sterRotation1,MasterPosition2,MasterRotation2, Actio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oAc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Dog,DogPosition,MasterPosition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sterRotation1,MasterPosition2, MasterRotation2,Actio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Left &lt;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380880"/>
            <a:ext cx="838188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Information(Dog,position(X,Y,Z),position(X1,Y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(X2,Y2,Z2,R2),position(X3,Y3,Z3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(X4,Y4,Z4,R4)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Dog,position,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proxSensor,position,X1,Y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Rotation(proxSensor,orientation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2,Y2,Z2,R2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sleep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proxSensor,position,X3,Y3,Z3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Rotation(proxSensor,orientation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4,Y4,Z4,R4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8600" y="228600"/>
            <a:ext cx="8610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position(X,_Y,Z),_,_,position(X3,_Y3,Z3),_,move_to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,Z,X3,Z3,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max_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position(X1,_Y1,Z1),_,position(X3,_Y3,Z3),_,move_to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1,Z1,X3,Z3,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lt; small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position(X1,_Y1,Z1),_,position(X3,_Y3,Z3),_,move_with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1,Z1,X3,Z3, 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big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position(X1,_Y1,Z1),_,position(X3,_Y3,Z3),_,look_at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1,Z1,X3,Z3,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lt; big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small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_,_,_,_,look_at_master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04920" y="152280"/>
            <a:ext cx="8534160" cy="70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Dog,position(X,_Y,Z),position(X1,_Y1,Z1)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look_at_maste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position(Dog,X,Z,X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ark(Dog,500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Dog,position(X,Y,Z),position(X1,_Y1,Z1)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to_maste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SFInt32(Dog,id,I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FlockCenter(position(X2,_Y2,Z2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aster_standing,[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Function(ID, Xd,Z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3 is X2 + Xd, Z3 is Z2 + Zd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position(Dog,X,Z,X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ark(Dog,500)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o_position(Dog,position(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(X3,Y,Z3),5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Dog, position(X,Y,Z),position(X1,_Y1,Z1),_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(X3,Y3,Z3)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with_maste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dif is X3-X1, Zdif is Z3-Z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FlockCenter(position(X5,_Y5,Z5), master_moving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[position(X3,Y3,Z3),Xdif,Zdif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SFInt32(Dog,id,I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Function(ID, Xd,Z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6 is X5 + Xd, Z6 is Z5 + Zd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position(Dog,X,Z,X6,Z6)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o_position(Dog,position(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(X6,Y,Z6),1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lock and Distributive Fun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70572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lock  Cent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57913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6320" y="152280"/>
            <a:ext cx="8915400" cy="62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lockCenter(position(X,Y,Z),master_standing, []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proxSensor,position,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lockCenter(position(X,Y,Z),master_moving, [position(X1,Y,Z1), Xdif, Zdif]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 is X1 + Xdif* enlarg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 is Z1 + Zdif* enlarg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1,0,3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2,-1,-2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3,1,-7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4,-2,3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5,2,2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6,-3,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7,3,-1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8,-4,4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9,5,-4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10,5,-3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ark(Dog,Time):-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Bool(Dog, bark, tru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Bool(Dog, bark, fals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do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914400"/>
            <a:ext cx="8229600" cy="26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Continue to work on the previous unfinished assignm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Improve the dog world example by adding more rules on the behavioral model, like thes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f the master stands near a dog, then the dog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jumps up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and bar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f the master stands and turns slowly, then dogs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lie upside dow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219320" y="3048120"/>
            <a:ext cx="2253960" cy="2654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562720" y="3124080"/>
            <a:ext cx="2286000" cy="24386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28600" y="58672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oti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1828800"/>
            <a:ext cx="76964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gister your grou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une 26, 2006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esentation of your system design.</a:t>
            </a: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 10 minutes for each group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ccer Fiel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8" name="field1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635004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ign of Virtual Worl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295280"/>
            <a:ext cx="8534520" cy="45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ransform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hap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ppearance Appearanc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exture ImageTexture { u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"field1.gif"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extureTransform TextureTransform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scale 1 1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ometry Box {size 100 .2 64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ccer Player Avata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81080"/>
            <a:ext cx="7848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ition: to set the position of the avat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tation: to set the rotation of the avat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ckname: to give a hint to the name of the avat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Choice: to indicate whether or not the avatar should appear in the virtual worlds, which would be convenient to add or delete any avatars from the sce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icturefile: to set the clothes and the appearance of the avatar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9480" y="193680"/>
            <a:ext cx="800100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ROTO Sportman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Vec3f 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Rotation ro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whichCh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String nickna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MFString picturefil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......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 DEF goalKeeper1 Sportma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rotation 0 1 0 -1.57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whichChoice -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 48 1.8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icturefile ["sportmanblue1.jpg"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ickname "blue1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 ] 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oles of Soccer Player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828800"/>
            <a:ext cx="830592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alkeeper: An agent whose active area is around the goal gate of its team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Player: An autonomous agent plays one of the following role: forward, middle fielder, and defend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PlayerUser: An agent (more exactly, just an object), which  corresponds the activities of the us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ple Thread Contro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1828800"/>
            <a:ext cx="81532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alizing the behaviors of multiple play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rea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: Separate instruction stream sharing a common memory address spac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ultiple thread contro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: makes a program for which the parts of its code can be executed concurrently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1T10:25:07Z</dcterms:created>
  <dc:creator>Faculteit Wiskunde en Informatica</dc:creator>
  <dc:description/>
  <dc:language>en-US</dc:language>
  <cp:lastModifiedBy>h</cp:lastModifiedBy>
  <dcterms:modified xsi:type="dcterms:W3CDTF">2006-06-11T10:14:28Z</dcterms:modified>
  <cp:revision>48</cp:revision>
  <dc:subject/>
  <dc:title>3D Soccer Agent</dc:title>
</cp:coreProperties>
</file>