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FC12-43D1-497B-B252-9935A8AC3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650D-0F37-4B14-B740-5A096ACFD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0232-9D9D-40D4-B0A3-641CFF213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DD2B-B8FD-4F2F-89E2-7A434449B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6D6A-329E-4C3B-BD11-BF875DA3B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B5C9-4FF3-4CA6-9242-D8ECB9661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D638-6E1E-470B-B9BB-93F51452B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98D8-A74D-4CFE-A779-CCFBCC4FB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7DF5-3AB4-49AF-8217-8BFCFC472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1B92-8BD7-45BE-A779-C9B3C82F3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9852-C2E3-45EB-B795-7F3416BD2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0222-912E-4218-ABAD-CC6542442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3EACC-FC93-4065-A21C-2AE2513BC7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ultimedia Authoring II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33520" y="1676520"/>
            <a:ext cx="822960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gic Programming Langu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bject-oriented Logic Programming Language and DL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LP for VRML-based Virtual Environ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gent, Web Agent, 3D Web Agent:  notions and implement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vatar Design and Contr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EP: a scripting language for Embodied Ag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urther Topic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371600"/>
            <a:ext cx="8153640" cy="56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rtual Communities and Agent-based virtual communit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ML-based Multimedia Technology: X3D, SMIL, XSTE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mbodied Conversational Agents: Facial animation and emotion model,  TTS (text to speech technology), gesture and sign langu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mulation of 3D Self-organizing systems and artificial lif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D Virtual environments for E-commer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D agents for education: 3D models for soccer train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D agents for entertainment and gam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…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inal Assignment: 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esentation of System Design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June 26, 2006 (Monday) S111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2362320"/>
            <a:ext cx="9144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1.10-11.20 Group 1: Tom Bestebreurtje and T.V. Burg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1.20-11.30 Group 2: WW Boer and  Sjaak Wout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1.30-11.40 Group 3: Jesper Hoeksema, Berend Weel,  and NC Vijlbrie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1.40-11.50 Group 4: NGM Moel  and EFP Viss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1.50-12.00 Group 5: A.E. van der Ende and Leendert Ullersm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.00-12.10 Group 6: Bouterse, MC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.10-12.20 Group 7: Wouter Broekhof and S. Y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.20-12.30 Group 8: Steve Stomp and D. Zulkarna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ach group has 6 minutes for the presentation, and 4 minutes for question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inal Assignme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066680" y="1471680"/>
            <a:ext cx="670572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gress report:  email to huang@cs.vu.n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ugust  30, 2006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adline:  email to huang@cs.vu.n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ptember 30, 200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por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urce cod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ecutable Progra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 Guideline for MMA2 Repor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752480"/>
            <a:ext cx="807732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itle, Names,  Emails, Student IDs, Project Web Si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trodu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stem desig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echnical descrip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 manu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scussion and future wor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feren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nline Resources (1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R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Floppy's VRML97 Tutor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The Annotated VRML 97 Refere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ISO: VRML97 Specif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VRML 2.0 EAI FA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lo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SWI PROLO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Prolog Tutor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nline Resources (2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1600200"/>
            <a:ext cx="79246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thematics of 3D Graphi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Vector Math for 3D Computer Graphi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3D Coding BlackHo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gent Technolo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The Agent Home P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The AgentLinks Home P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vat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H-anim: Specification for a Standard Humano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Avata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Cywor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nline Resources (3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rtual Commun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Blaxxun Community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Active Worl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b3D Art and Ga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Web 3D A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VRML gam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avascrip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JavaScript Tutor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EchoEcho: JavaScript Tutor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JavaScript Quick Referenc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1T10:47:55Z</dcterms:created>
  <dc:creator>Faculteit Wiskunde en Informatica</dc:creator>
  <dc:description/>
  <dc:language>en-US</dc:language>
  <cp:lastModifiedBy>h</cp:lastModifiedBy>
  <dcterms:modified xsi:type="dcterms:W3CDTF">2006-06-18T09:54:25Z</dcterms:modified>
  <cp:revision>46</cp:revision>
  <dc:subject/>
  <dc:title>DLP for Virtual Communities</dc:title>
</cp:coreProperties>
</file>