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B9523-881D-4E12-A5F9-E6A47E980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ACF1D-79F0-4B53-BD5D-D706CB29E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B855D-4731-4C23-8C38-0DC3A3523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7DF59-AB5A-4232-8521-13BB9975C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43677-A87A-41E3-84E2-D2A0BE76E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2C100-97D3-4535-BCE8-FDD8CA294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AF08D-9D92-495B-BAA4-19524D332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81430-81A1-40E5-87D2-21912C8D1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AE999-4CDE-419F-8BA5-27332135D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BF9A7-3C6A-45EB-A654-3A09C0A17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5DED9-A547-4CB4-A1C5-051281F5F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080FC-A015-4210-B13E-F9E12E9CE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6551E-7949-4C70-B089-C775877D2FF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vatar Desig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838080" y="1981080"/>
            <a:ext cx="80010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Avatars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: 3D representation of  human users or autonomous agents in virtual worl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981080" y="3124080"/>
            <a:ext cx="1677960" cy="31226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5181480" y="3809880"/>
            <a:ext cx="16160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h-anim1_1f" descr=""/>
          <p:cNvPicPr/>
          <p:nvPr/>
        </p:nvPicPr>
        <p:blipFill>
          <a:blip r:embed="rId1"/>
          <a:stretch/>
        </p:blipFill>
        <p:spPr>
          <a:xfrm>
            <a:off x="2286000" y="0"/>
            <a:ext cx="4807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ite Nod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04920" y="1143000"/>
            <a:ext cx="8839080" cy="503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PROTO Site [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SFVec3f     center      0 0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MFNode      children    [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SFString    name        ""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SFRotation  rotation    0 0 1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SFVec3f     scale       1 1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SFRotation  scaleOrientation 0 0 1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SFVec3f     translation 0 0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ventIn         MFNode      addChildre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ventIn         MFNode      removeChildr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Displacer Nod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2209680"/>
            <a:ext cx="822960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PROTO Displacer [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MFInt32  coordIndex     [ 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MFVec3f  displacements  [ 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SFString name           ""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isplacer: Exampl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33520" y="1981080"/>
            <a:ext cx="8305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isplacer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ordIndex [ 7, 12, 21, 18 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isplacements [ 0 0.0025 0, 0 0.005 0, 0 0.0025 0, 0 0.001 0 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name "l_eyebrow_raiser_action"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umanoid No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838080"/>
            <a:ext cx="8610480" cy="61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PROTO Humanoid [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ield  SFVec3f  bboxCenter   0 0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ield  SFVec3f  bboxSize     -1 -1 -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SFVec3f    center     0 0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MFNode    humanoidBody [ 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MFString   info        [ 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MFNode     joints      [ 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SFString   name        ""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SFRotation rotation    0 0 1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SFVec3f    scale       1 1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MFNode     segments    [ 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MFNode     sites       [ 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SFVec3f    translation 0 0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SFString   version     "1.1"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MFNode     viewpoints  [ ]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emplate fil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28600" y="1295280"/>
            <a:ext cx="8534520" cy="53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A 0: Level of Articulation Zero (HumanoidRoot Joint Onl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ttp://h-anim.org/Specifications/HAnim1.1/JointCenters1_1_LOA0.wr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A 1: Level of Articulation One (Typical low-end real-time 3D hierarch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ttp://h-anim.org/Specifications/HAnim1.1/JointCenters1_1_LOA1.wr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A 2: Level of Articulation Two (MPEG-4 w2229 document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ttp://h-anim.org/Specifications/HAnim1.1/JointCenters1_1_LOA2.wr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A 3: Level of Articulation Three (Full H-Anim Hierarchy 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ttp://h-anim.org/Specifications/HAnim1.1/JointCenters1_1_LOA3.wr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Times New Roman"/>
              </a:rPr>
              <a:t>Creating H-anim Compliant Avatar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72" name="AVATAR1" descr=""/>
          <p:cNvPicPr/>
          <p:nvPr/>
        </p:nvPicPr>
        <p:blipFill>
          <a:blip r:embed="rId1"/>
          <a:stretch/>
        </p:blipFill>
        <p:spPr>
          <a:xfrm>
            <a:off x="1981080" y="2209680"/>
            <a:ext cx="3962520" cy="400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l_hand.wr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85800" y="914400"/>
            <a:ext cx="8001000" cy="57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#VRML V2.0 utf8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DEF hanim_l_hand Transform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translation 0.15 0.7 -0.02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rotation 0 0 1 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children [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DEF hanim_l_hand_shape Shape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appearance Appearance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material  Material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ambientIntensity 0.200                           shininess 0.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diffuseColor 0.76863 0.61961 0.5490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missiveColor 0.0 0.0 0.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specularColor 0.0 0.0 0.0}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geometry Sphere {radius 0.07}}]}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685800" y="685800"/>
            <a:ext cx="8153280" cy="394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...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children [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DEF hanim_l_hand Segment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name         "l_hand"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children [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nline { url "l_hand0.wrl"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..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AVATAR2" descr=""/>
          <p:cNvPicPr/>
          <p:nvPr/>
        </p:nvPicPr>
        <p:blipFill>
          <a:blip r:embed="rId1"/>
          <a:stretch/>
        </p:blipFill>
        <p:spPr>
          <a:xfrm>
            <a:off x="2841480" y="685800"/>
            <a:ext cx="341172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ypes of Avatar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33520" y="1981080"/>
            <a:ext cx="807696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Animated versus Non-anima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Texture-based versus non-texture-bas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audio-embedded versus non-audio-embedd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H-anim compliant versus non-H-anim complia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09480" y="228600"/>
            <a:ext cx="7696440" cy="61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..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DEF hanim_vl5 Joint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name           "vl5"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center         0.0028 1.0568 -0.077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children [DEF hanim_skullbase Joint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name         "skullbase"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center       0.0044 1.6209 0.023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children [DEF hanim_skull Segment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name         "skull"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children [DEF hanim_skull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nline { url "skull.wrl" 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DEF hanim_skull_tip Site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name         "skull_tip"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translation    0.0050 1.7504 0.005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children [Inline { url "hair.wrl" }]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vatar Authoring Tool: Poser 4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79" name="POSER4" descr=""/>
          <p:cNvPicPr/>
          <p:nvPr/>
        </p:nvPicPr>
        <p:blipFill>
          <a:blip r:embed="rId1"/>
          <a:stretch/>
        </p:blipFill>
        <p:spPr>
          <a:xfrm>
            <a:off x="685800" y="1371600"/>
            <a:ext cx="769608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Blaxxun Avatar Studi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81" name="avatarstudio" descr=""/>
          <p:cNvPicPr/>
          <p:nvPr/>
        </p:nvPicPr>
        <p:blipFill>
          <a:blip r:embed="rId1"/>
          <a:stretch/>
        </p:blipFill>
        <p:spPr>
          <a:xfrm>
            <a:off x="1066680" y="1447920"/>
            <a:ext cx="6934320" cy="52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SPORTMAN" descr=""/>
          <p:cNvPicPr/>
          <p:nvPr/>
        </p:nvPicPr>
        <p:blipFill>
          <a:blip r:embed="rId1"/>
          <a:stretch/>
        </p:blipFill>
        <p:spPr>
          <a:xfrm>
            <a:off x="3057480" y="609480"/>
            <a:ext cx="290520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sportmanblue2" descr=""/>
          <p:cNvPicPr/>
          <p:nvPr/>
        </p:nvPicPr>
        <p:blipFill>
          <a:blip r:embed="rId1"/>
          <a:stretch/>
        </p:blipFill>
        <p:spPr>
          <a:xfrm>
            <a:off x="1981080" y="533520"/>
            <a:ext cx="50292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equirement for a scripting language for Avatar Anim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62120" y="2133720"/>
            <a:ext cx="80010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terpol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arallelism and synchroniz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asy rotation calcul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Times New Roman"/>
              </a:rPr>
              <a:t>H-anim 1.1 Specific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1523880"/>
            <a:ext cx="7620120" cy="54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(Humanoid animation working group, 2001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ff00"/>
                </a:solidFill>
                <a:latin typeface="Times New Roman"/>
              </a:rPr>
              <a:t>http://www.h-anim.or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Goals:  the creation of libraries of humanoids for reusable in Web-based applications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as well as authoring tools that make it easy to create humanoids and animate them in various way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H-anim  specifies a standard way of representing humanoids in VRML97/X3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-anim Avatar: Y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048120" y="1676520"/>
            <a:ext cx="2952720" cy="51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-anim Nod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828800"/>
            <a:ext cx="8305920" cy="528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Joint nodes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 are arranged to form a hierarchy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Segment node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 describes the body part associated with that joint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Site nodes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define locations relative to the segment. Sites can be used for attaching accessories, like hat and clothing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Displacer nodes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specify which vertices within the segment correspond to a particular feature or configuration of vertice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Joint Nod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380880"/>
            <a:ext cx="9144000" cy="65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PROTO Joint [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 SFVec3f      center     0 0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 MFNode       children   [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 MFFloat      llimit     [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 SFRotation   limitOrientation    0 0 1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 SFString     name       ""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 SFRotation   rotation            0 0 1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 SFVec3f      scale      1 1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 SFRotation   scaleOrientation    0 0 1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 MFFloat      stiffness [ 0 0 0 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 SFVec3f      translation   0 0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 MFFloat      ulimit        [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Joint Node: Exampl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04920" y="1219320"/>
            <a:ext cx="88390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EF hanim_l_shoulder Joint {  name "l_shoulder"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enter 0.167 1.36 -0.051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hildren    [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EF hanim_l_elbow Joint {  name "l_elbow"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enter 0.196 1.07 -0.051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hildren        [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EF hanim_l_wrist Joint {  name "l_wrist"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enter 0.213 0.811 -0.033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hildren    [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EF hanim_l_hand Segment {  name "l_hand"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...} ]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EF hanim_l_forearm Segment {  name "l_forearm"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... }]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EF hanim_l_upperarm Segment {  name "l_upperarm"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...}]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egment Nod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1219320"/>
            <a:ext cx="8686800" cy="57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PROTO Segment [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ield   SFVec3f     bboxCenter        0 0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ield   SFVec3f     bboxSize          -1 -1 -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SFVec3f   centerOfMass  0 0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MFNode    children      [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SFNode    coord         NUL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MFNode    displacers        [ 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SFFloat   mass              0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MFFloat   momentsOfInertia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[ 0 0 0 0 0 0 0 0 0 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SFString  name              ""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ventIn       MFNode    addChildr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ventIn       MFNode    removeChildren    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A Standard Joints/Segment Diagram of H-anim 1.1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30T08:12:55Z</dcterms:created>
  <dc:creator>h</dc:creator>
  <dc:description/>
  <dc:language>en-US</dc:language>
  <cp:lastModifiedBy>h</cp:lastModifiedBy>
  <dcterms:modified xsi:type="dcterms:W3CDTF">2006-06-18T10:06:01Z</dcterms:modified>
  <cp:revision>19</cp:revision>
  <dc:subject/>
  <dc:title>Avatar Design</dc:title>
</cp:coreProperties>
</file>