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A1E9-B69C-4074-AA7B-20252EECF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B1AB-FBB2-4C62-B213-8BD5ABF35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5648-54A5-4B91-A5F3-D0E1D52A1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9C06-CD40-4808-A668-4D3118C3C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DB13-1B98-4C4B-B59D-44D8DBD3C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FE4A-AC28-42B5-823F-5BDB914D7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2959-9478-434C-A9BD-75489E076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CC38-1CCD-4514-87F1-E372E2F93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E3D5-8704-44D3-8F59-D26802206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2383-5124-4954-A1F1-476B810A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C1FA-8D0C-45CA-A403-C8D2FA97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1122-DEA2-4204-8AAE-E1FA35A4A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59011-37A2-4E91-9A91-0E21BB0B0F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w3schools.com/js/" TargetMode="External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Interface Design for DLP</a:t>
            </a:r>
            <a:br>
              <a:rPr sz="4400"/>
            </a:br>
            <a:r>
              <a:rPr b="0" i="1" lang="nl-NL" sz="4400" spc="-1" strike="noStrike">
                <a:solidFill>
                  <a:srgbClr val="ffff00"/>
                </a:solidFill>
                <a:latin typeface="Times New Roman"/>
              </a:rPr>
              <a:t>Javascripts Suppo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tter  human-compuer inte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Easy to make the system set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Change the system parameters at the run ti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Pass values from Javascript to DL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1447920"/>
            <a:ext cx="8305560" cy="69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:-object busDrivingjs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main :-setInitialValues(bus1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new(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busDrivinglistener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script, queue), _), 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etInitialValues(Object):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et_field(Object, speed, 0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et_field(Object, engine_status, off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:-end_object busDrivingjs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304920"/>
            <a:ext cx="9144000" cy="82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:-object busDrivinglistener : [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jsilib, bcilib, busDriving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]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busDrivinglistener(Node,Queue):-run(Node, Queu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run(Node,Queue):- repea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get_queue(Node, Queue, Term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process_test_term(Term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Term = stop, !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process_test_term(Term):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Term =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peedChange(Object,Change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!,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peedChange(Object,Change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),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:-end_object busDrivinglisten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457200"/>
            <a:ext cx="914400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Change(Object, Change):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get_field(Object, engine_status, Status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tatus = 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get_fiel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Object, speed, Speed),%  get a global vari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new is Speed + Chang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new &gt; 0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!,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et_fiel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Object, speed, Speednew), % set a global variab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howSpeed(Object, Speednew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Change(_,_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Set parameters directly from Javascrip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1828800"/>
            <a:ext cx="830592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engineProcess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If (window.document.interfaceform.engine.value==“EngineOff” )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{…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applets['dlpbrow'].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et_fiel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"bus1", "engine_status", "off"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Pass values from DLP to Javascrip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523880"/>
            <a:ext cx="9144000" cy="59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Courier New"/>
              </a:rPr>
              <a:t>In DLP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howSpeed(Object, Speed):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get_window(Window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call(Window,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howSpee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,[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Object, Spee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],_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 Javascript ( busDriving_world.htm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&lt;script type="text/javascript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howSpeed(object, spe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{window.parent.interface.window.document.interfaceform.speed.value = speed;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hange Parameters at the Run Tim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18288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econd message queue is nee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068720" cy="25178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342900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315200" y="4038480"/>
            <a:ext cx="15238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vascrip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24280" y="3581280"/>
            <a:ext cx="2133720" cy="459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ript_queue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4952880"/>
            <a:ext cx="2133720" cy="459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ript_queue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781680" y="4572000"/>
            <a:ext cx="106704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6858000" y="3809520"/>
            <a:ext cx="1295280" cy="228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114440" y="52578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4038120" y="38098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114800" y="54864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gine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038480" y="2666880"/>
            <a:ext cx="4800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n time contro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gineOff, setRotation, speedCh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131760"/>
            <a:ext cx="9144000" cy="87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Courier New"/>
              </a:rPr>
              <a:t>In DLP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main :-setInitialValues(bus1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new(busDrivinglistener(script, queue), _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ew(busDrivinglistener(script, queue2), _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Courier New"/>
              </a:rPr>
              <a:t>In Javascript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(busDriving_interface.htm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appletQueue2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term) {window.parent.world.document.applets['dlpbrow'].set_queue("script",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"queue2",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term);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engineProcess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){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If(window.document.interfaceform.engine.value==“EngineOn” ){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appletQueue2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"term: engine(bus1,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on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)");......} 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urce C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1523880"/>
            <a:ext cx="83059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ource codes of the bus driving with Javascript interface are available at the MMA2 websit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tp://wasp.cs.vu.nl/mma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erci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1905120"/>
            <a:ext cx="81536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*(Bonus).  Design a Bus  Race Game with Javascript interfa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Hint: Combine the Bus-Driving-with-Javascript program with the Bus-Moving-along-Route progra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Example: Bus Driving with Javascript interfa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792468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Use Fram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6477120" cy="4159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flipH="1" flipV="1">
            <a:off x="5334120" y="5562720"/>
            <a:ext cx="1828800" cy="3045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315200" y="5715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inte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6019920" y="2133720"/>
            <a:ext cx="13716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15200" y="19051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533520"/>
            <a:ext cx="9144000" cy="65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html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head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title&gt;Bus Driving Example (with Javascript Interface)&lt;/titl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head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frameset frameborder=1 rows="80%,20%,*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frame src="busdriving_world.htm"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ame="world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marginwidth=0 scrolling=no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frame src="busdriving_interface.htm"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ame="interface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marginwidth=1 scrolling=yes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framese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html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DLP Javascript Interfa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1066680"/>
            <a:ext cx="8458200" cy="63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S methods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(Java script -&gt; DL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ar applet = window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ocument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pplets['dlpbrow']; 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pple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t_queue("namespace", "queuename", term 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to set a message on a message queue on a DLP progra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pple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t_field( "namespace", "fieldname", atomic )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get a value of a global variable  on a DLP  pro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pple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t_field( "namespace", "fieldname", term )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set a value of a global variable on a  DLP pro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LP methods (object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jsilib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 (DLP -&gt; Javascrip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t_window( -JSObject 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l( +JSObject, +JSFunctionName, +ArgList, -FunctionResult )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busDriving_world.ht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990720"/>
            <a:ext cx="8534520" cy="51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&lt;script type="text/javascript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......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embed src="./../vrml/street/street5d.wrl"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applet codebase="./classes" archive="dlpsys.jar" code="dlpbrow.class"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id="dlpbrow" name="dlpbrow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width=0 height=0 MAY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param name="object" value="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busDrivingjsi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apple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busDriving_interface.ht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1295280"/>
            <a:ext cx="8610480" cy="58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script&gt; ... 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form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ame="interfaceform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INPUT TYPE="button"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ame="engine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Value="EngineOn"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onClick="engineProcess()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INPUT TYPE="button" name="gas"   Value="Gas" onClick="gasProcess()"&gt; 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INPUT TYPE="button" name="turnleft" VALUE="TurnLeft"  onClick="turnLeft()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: &lt;INPUT TYPE="text" NAME="speed" VALUE="0"&gt; ...... &lt;/form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Online Javascript Tutori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3200400"/>
            <a:ext cx="7619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ww.w3schools.com/js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tp://www.cs.brown.edu/courses/bridge/1998/res/javascript/javascript-tutorial.ht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busDrving_interface.htm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1289160"/>
            <a:ext cx="876312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&lt;script&gt;  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appletQueue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ter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{window.parent.world.document.applets['dlpbrow'].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et_queue("script", "queue", term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);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gasProcess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{var gaschange = 2.0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appletQueue("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term: speedChange(bus1," + gaschange + ")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);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5T08:18:54Z</dcterms:created>
  <dc:creator> h</dc:creator>
  <dc:description/>
  <dc:language>en-US</dc:language>
  <cp:lastModifiedBy>h</cp:lastModifiedBy>
  <dcterms:modified xsi:type="dcterms:W3CDTF">2006-06-18T11:50:50Z</dcterms:modified>
  <cp:revision>16</cp:revision>
  <dc:subject/>
  <dc:title>Interface Design for DLP Javascripts Support</dc:title>
</cp:coreProperties>
</file>